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6B7-0E5D-43FD-80A8-8B2E4A47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C97-BAD2-40E1-BD99-959E7F10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5F5-D853-4B5C-8FD0-09320901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9AEE-4CC0-4FE0-A96C-DAAA24D3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4CB-2C96-4DAF-BFC0-6F2DC9BD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AF1-4BE7-4A87-BC99-ABAA2B3E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6DD-F448-4F3E-AF2D-A246F1F9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097-602E-46CC-8398-843AB499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DBE-49CC-4C3E-86AD-919D2948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E0A-9C70-4E56-91A2-E69B4848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FE65-E346-4ED6-BFD8-E3233692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6E9-A35D-4717-96BA-541FF70E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FC81-9F92-4558-AF67-3585DC88FE0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7924680" cy="60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 Unicode MS"/>
              </a:rPr>
              <a:t>SCOLEL 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es-MX" sz="3600" spc="-1" strike="noStrike">
                <a:solidFill>
                  <a:srgbClr val="000000"/>
                </a:solidFill>
                <a:latin typeface="Arial Unicode MS"/>
              </a:rPr>
              <a:t>El árbol que crec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Unicode MS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Unicode MS"/>
              </a:rPr>
              <a:t>ECOS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Unicode MS"/>
              </a:rPr>
              <a:t>UNIVERSIDAD DE EDIMBUR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Unicode MS"/>
              </a:rPr>
              <a:t>FIDEICOMISO FONDO BIOCLIMA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Unicode MS"/>
              </a:rPr>
              <a:t>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Unicode MS"/>
              </a:rPr>
              <a:t>EC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Unicode MS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295280"/>
            <a:ext cx="4800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181480" y="4724280"/>
            <a:ext cx="3199680" cy="1599120"/>
            <a:chOff x="5181480" y="4724280"/>
            <a:chExt cx="3199680" cy="1599120"/>
          </a:xfrm>
        </p:grpSpPr>
        <p:sp>
          <p:nvSpPr>
            <p:cNvPr id="44" name=""/>
            <p:cNvSpPr/>
            <p:nvPr/>
          </p:nvSpPr>
          <p:spPr>
            <a:xfrm>
              <a:off x="5181480" y="4724280"/>
              <a:ext cx="1919880" cy="1553400"/>
            </a:xfrm>
            <a:custGeom>
              <a:avLst/>
              <a:gdLst/>
              <a:ahLst/>
              <a:rect l="l" t="t" r="r" b="b"/>
              <a:pathLst>
                <a:path w="4641" h="3732">
                  <a:moveTo>
                    <a:pt x="1499" y="96"/>
                  </a:moveTo>
                  <a:cubicBezTo>
                    <a:pt x="1530" y="88"/>
                    <a:pt x="1561" y="71"/>
                    <a:pt x="1684" y="50"/>
                  </a:cubicBezTo>
                  <a:cubicBezTo>
                    <a:pt x="1874" y="15"/>
                    <a:pt x="2070" y="16"/>
                    <a:pt x="2262" y="0"/>
                  </a:cubicBezTo>
                  <a:cubicBezTo>
                    <a:pt x="2458" y="4"/>
                    <a:pt x="2654" y="5"/>
                    <a:pt x="2850" y="12"/>
                  </a:cubicBezTo>
                  <a:cubicBezTo>
                    <a:pt x="2982" y="19"/>
                    <a:pt x="2969" y="22"/>
                    <a:pt x="3052" y="44"/>
                  </a:cubicBezTo>
                  <a:cubicBezTo>
                    <a:pt x="3135" y="66"/>
                    <a:pt x="3254" y="95"/>
                    <a:pt x="3349" y="144"/>
                  </a:cubicBezTo>
                  <a:cubicBezTo>
                    <a:pt x="3444" y="193"/>
                    <a:pt x="3563" y="291"/>
                    <a:pt x="3624" y="336"/>
                  </a:cubicBezTo>
                  <a:cubicBezTo>
                    <a:pt x="3638" y="345"/>
                    <a:pt x="3701" y="403"/>
                    <a:pt x="3714" y="414"/>
                  </a:cubicBezTo>
                  <a:cubicBezTo>
                    <a:pt x="3775" y="487"/>
                    <a:pt x="3925" y="686"/>
                    <a:pt x="3986" y="792"/>
                  </a:cubicBezTo>
                  <a:cubicBezTo>
                    <a:pt x="4035" y="899"/>
                    <a:pt x="4068" y="994"/>
                    <a:pt x="4067" y="1076"/>
                  </a:cubicBezTo>
                  <a:cubicBezTo>
                    <a:pt x="4066" y="1158"/>
                    <a:pt x="4024" y="1239"/>
                    <a:pt x="3977" y="1284"/>
                  </a:cubicBezTo>
                  <a:cubicBezTo>
                    <a:pt x="3930" y="1329"/>
                    <a:pt x="3849" y="1321"/>
                    <a:pt x="3788" y="1344"/>
                  </a:cubicBezTo>
                  <a:cubicBezTo>
                    <a:pt x="3727" y="1367"/>
                    <a:pt x="3668" y="1396"/>
                    <a:pt x="3611" y="1425"/>
                  </a:cubicBezTo>
                  <a:cubicBezTo>
                    <a:pt x="3562" y="1451"/>
                    <a:pt x="3508" y="1482"/>
                    <a:pt x="3446" y="1518"/>
                  </a:cubicBezTo>
                  <a:cubicBezTo>
                    <a:pt x="3361" y="1568"/>
                    <a:pt x="3349" y="1561"/>
                    <a:pt x="3274" y="1611"/>
                  </a:cubicBezTo>
                  <a:cubicBezTo>
                    <a:pt x="3238" y="1635"/>
                    <a:pt x="3170" y="1686"/>
                    <a:pt x="3134" y="1710"/>
                  </a:cubicBezTo>
                  <a:cubicBezTo>
                    <a:pt x="3094" y="1737"/>
                    <a:pt x="3049" y="1776"/>
                    <a:pt x="3010" y="1817"/>
                  </a:cubicBezTo>
                  <a:cubicBezTo>
                    <a:pt x="2966" y="1873"/>
                    <a:pt x="2887" y="1958"/>
                    <a:pt x="2842" y="2039"/>
                  </a:cubicBezTo>
                  <a:cubicBezTo>
                    <a:pt x="2797" y="2120"/>
                    <a:pt x="2757" y="2210"/>
                    <a:pt x="2742" y="2304"/>
                  </a:cubicBezTo>
                  <a:cubicBezTo>
                    <a:pt x="2746" y="2404"/>
                    <a:pt x="2738" y="2505"/>
                    <a:pt x="2754" y="2604"/>
                  </a:cubicBezTo>
                  <a:cubicBezTo>
                    <a:pt x="2759" y="2632"/>
                    <a:pt x="2769" y="2657"/>
                    <a:pt x="2785" y="2681"/>
                  </a:cubicBezTo>
                  <a:cubicBezTo>
                    <a:pt x="2792" y="2692"/>
                    <a:pt x="2806" y="2718"/>
                    <a:pt x="2812" y="2729"/>
                  </a:cubicBezTo>
                  <a:cubicBezTo>
                    <a:pt x="2853" y="2784"/>
                    <a:pt x="2978" y="2943"/>
                    <a:pt x="3044" y="3006"/>
                  </a:cubicBezTo>
                  <a:cubicBezTo>
                    <a:pt x="3120" y="3048"/>
                    <a:pt x="3140" y="3051"/>
                    <a:pt x="3220" y="3078"/>
                  </a:cubicBezTo>
                  <a:cubicBezTo>
                    <a:pt x="3284" y="3088"/>
                    <a:pt x="3346" y="3104"/>
                    <a:pt x="3436" y="3081"/>
                  </a:cubicBezTo>
                  <a:cubicBezTo>
                    <a:pt x="3526" y="3057"/>
                    <a:pt x="3679" y="2984"/>
                    <a:pt x="3761" y="2934"/>
                  </a:cubicBezTo>
                  <a:cubicBezTo>
                    <a:pt x="3840" y="2882"/>
                    <a:pt x="3883" y="2839"/>
                    <a:pt x="3929" y="2780"/>
                  </a:cubicBezTo>
                  <a:cubicBezTo>
                    <a:pt x="3974" y="2721"/>
                    <a:pt x="4015" y="2645"/>
                    <a:pt x="4031" y="2582"/>
                  </a:cubicBezTo>
                  <a:cubicBezTo>
                    <a:pt x="4027" y="2522"/>
                    <a:pt x="4036" y="2459"/>
                    <a:pt x="4026" y="2400"/>
                  </a:cubicBezTo>
                  <a:cubicBezTo>
                    <a:pt x="4011" y="2356"/>
                    <a:pt x="3973" y="2318"/>
                    <a:pt x="3943" y="2316"/>
                  </a:cubicBezTo>
                  <a:cubicBezTo>
                    <a:pt x="3916" y="2320"/>
                    <a:pt x="3872" y="2348"/>
                    <a:pt x="3844" y="2391"/>
                  </a:cubicBezTo>
                  <a:cubicBezTo>
                    <a:pt x="3815" y="2434"/>
                    <a:pt x="3804" y="2517"/>
                    <a:pt x="3767" y="2574"/>
                  </a:cubicBezTo>
                  <a:cubicBezTo>
                    <a:pt x="3730" y="2631"/>
                    <a:pt x="3662" y="2695"/>
                    <a:pt x="3625" y="2733"/>
                  </a:cubicBezTo>
                  <a:cubicBezTo>
                    <a:pt x="3588" y="2769"/>
                    <a:pt x="3578" y="2783"/>
                    <a:pt x="3547" y="2801"/>
                  </a:cubicBezTo>
                  <a:cubicBezTo>
                    <a:pt x="3516" y="2819"/>
                    <a:pt x="3486" y="2839"/>
                    <a:pt x="3438" y="2844"/>
                  </a:cubicBezTo>
                  <a:cubicBezTo>
                    <a:pt x="3378" y="2840"/>
                    <a:pt x="3317" y="2845"/>
                    <a:pt x="3258" y="2832"/>
                  </a:cubicBezTo>
                  <a:cubicBezTo>
                    <a:pt x="3206" y="2806"/>
                    <a:pt x="3156" y="2724"/>
                    <a:pt x="3126" y="2688"/>
                  </a:cubicBezTo>
                  <a:cubicBezTo>
                    <a:pt x="3097" y="2627"/>
                    <a:pt x="3062" y="2568"/>
                    <a:pt x="3064" y="2472"/>
                  </a:cubicBezTo>
                  <a:cubicBezTo>
                    <a:pt x="3056" y="2403"/>
                    <a:pt x="3048" y="2355"/>
                    <a:pt x="3080" y="2273"/>
                  </a:cubicBezTo>
                  <a:cubicBezTo>
                    <a:pt x="3112" y="2191"/>
                    <a:pt x="3188" y="2057"/>
                    <a:pt x="3258" y="1980"/>
                  </a:cubicBezTo>
                  <a:cubicBezTo>
                    <a:pt x="3311" y="1901"/>
                    <a:pt x="3415" y="1854"/>
                    <a:pt x="3498" y="1812"/>
                  </a:cubicBezTo>
                  <a:cubicBezTo>
                    <a:pt x="3595" y="1759"/>
                    <a:pt x="3744" y="1694"/>
                    <a:pt x="3836" y="1659"/>
                  </a:cubicBezTo>
                  <a:cubicBezTo>
                    <a:pt x="3929" y="1624"/>
                    <a:pt x="3993" y="1609"/>
                    <a:pt x="4055" y="1604"/>
                  </a:cubicBezTo>
                  <a:cubicBezTo>
                    <a:pt x="4114" y="1601"/>
                    <a:pt x="4160" y="1607"/>
                    <a:pt x="4207" y="1628"/>
                  </a:cubicBezTo>
                  <a:cubicBezTo>
                    <a:pt x="4254" y="1649"/>
                    <a:pt x="4280" y="1667"/>
                    <a:pt x="4338" y="1728"/>
                  </a:cubicBezTo>
                  <a:cubicBezTo>
                    <a:pt x="4423" y="1799"/>
                    <a:pt x="4500" y="1897"/>
                    <a:pt x="4555" y="1994"/>
                  </a:cubicBezTo>
                  <a:cubicBezTo>
                    <a:pt x="4603" y="2084"/>
                    <a:pt x="4617" y="2132"/>
                    <a:pt x="4626" y="2268"/>
                  </a:cubicBezTo>
                  <a:cubicBezTo>
                    <a:pt x="4641" y="2559"/>
                    <a:pt x="4630" y="2456"/>
                    <a:pt x="4610" y="2808"/>
                  </a:cubicBezTo>
                  <a:cubicBezTo>
                    <a:pt x="4607" y="2862"/>
                    <a:pt x="4540" y="2966"/>
                    <a:pt x="4525" y="3018"/>
                  </a:cubicBezTo>
                  <a:cubicBezTo>
                    <a:pt x="4486" y="3110"/>
                    <a:pt x="4407" y="3291"/>
                    <a:pt x="4374" y="3360"/>
                  </a:cubicBezTo>
                  <a:cubicBezTo>
                    <a:pt x="4311" y="3453"/>
                    <a:pt x="4208" y="3530"/>
                    <a:pt x="4146" y="3576"/>
                  </a:cubicBezTo>
                  <a:cubicBezTo>
                    <a:pt x="4046" y="3636"/>
                    <a:pt x="3910" y="3698"/>
                    <a:pt x="3774" y="3720"/>
                  </a:cubicBezTo>
                  <a:cubicBezTo>
                    <a:pt x="3622" y="3732"/>
                    <a:pt x="3354" y="3670"/>
                    <a:pt x="3234" y="3648"/>
                  </a:cubicBezTo>
                  <a:cubicBezTo>
                    <a:pt x="3090" y="3612"/>
                    <a:pt x="2972" y="3534"/>
                    <a:pt x="2910" y="3504"/>
                  </a:cubicBezTo>
                  <a:cubicBezTo>
                    <a:pt x="2794" y="3436"/>
                    <a:pt x="2618" y="3300"/>
                    <a:pt x="2538" y="3240"/>
                  </a:cubicBezTo>
                  <a:cubicBezTo>
                    <a:pt x="2474" y="3190"/>
                    <a:pt x="2452" y="3166"/>
                    <a:pt x="2430" y="3144"/>
                  </a:cubicBezTo>
                  <a:cubicBezTo>
                    <a:pt x="2387" y="3096"/>
                    <a:pt x="2315" y="3047"/>
                    <a:pt x="2270" y="2949"/>
                  </a:cubicBezTo>
                  <a:cubicBezTo>
                    <a:pt x="2232" y="2888"/>
                    <a:pt x="2209" y="2837"/>
                    <a:pt x="2186" y="2774"/>
                  </a:cubicBezTo>
                  <a:cubicBezTo>
                    <a:pt x="2163" y="2711"/>
                    <a:pt x="2151" y="2626"/>
                    <a:pt x="2134" y="2573"/>
                  </a:cubicBezTo>
                  <a:cubicBezTo>
                    <a:pt x="2124" y="2550"/>
                    <a:pt x="2097" y="2477"/>
                    <a:pt x="2083" y="2456"/>
                  </a:cubicBezTo>
                  <a:cubicBezTo>
                    <a:pt x="2051" y="2408"/>
                    <a:pt x="2031" y="2369"/>
                    <a:pt x="1999" y="2321"/>
                  </a:cubicBezTo>
                  <a:cubicBezTo>
                    <a:pt x="1943" y="2269"/>
                    <a:pt x="1844" y="2182"/>
                    <a:pt x="1746" y="2142"/>
                  </a:cubicBezTo>
                  <a:cubicBezTo>
                    <a:pt x="1663" y="2087"/>
                    <a:pt x="1529" y="2072"/>
                    <a:pt x="1432" y="2060"/>
                  </a:cubicBezTo>
                  <a:cubicBezTo>
                    <a:pt x="1337" y="2052"/>
                    <a:pt x="1228" y="2042"/>
                    <a:pt x="1132" y="2060"/>
                  </a:cubicBezTo>
                  <a:cubicBezTo>
                    <a:pt x="1036" y="2078"/>
                    <a:pt x="916" y="2116"/>
                    <a:pt x="857" y="2171"/>
                  </a:cubicBezTo>
                  <a:cubicBezTo>
                    <a:pt x="798" y="2226"/>
                    <a:pt x="788" y="2315"/>
                    <a:pt x="775" y="2390"/>
                  </a:cubicBezTo>
                  <a:cubicBezTo>
                    <a:pt x="762" y="2465"/>
                    <a:pt x="776" y="2561"/>
                    <a:pt x="781" y="2624"/>
                  </a:cubicBezTo>
                  <a:cubicBezTo>
                    <a:pt x="786" y="2687"/>
                    <a:pt x="793" y="2710"/>
                    <a:pt x="808" y="2771"/>
                  </a:cubicBezTo>
                  <a:cubicBezTo>
                    <a:pt x="827" y="2834"/>
                    <a:pt x="837" y="2918"/>
                    <a:pt x="871" y="2994"/>
                  </a:cubicBezTo>
                  <a:cubicBezTo>
                    <a:pt x="905" y="3070"/>
                    <a:pt x="972" y="3180"/>
                    <a:pt x="1014" y="3228"/>
                  </a:cubicBezTo>
                  <a:cubicBezTo>
                    <a:pt x="1042" y="3270"/>
                    <a:pt x="1072" y="3263"/>
                    <a:pt x="1120" y="3279"/>
                  </a:cubicBezTo>
                  <a:cubicBezTo>
                    <a:pt x="1148" y="3275"/>
                    <a:pt x="1159" y="3278"/>
                    <a:pt x="1181" y="3261"/>
                  </a:cubicBezTo>
                  <a:cubicBezTo>
                    <a:pt x="1201" y="3245"/>
                    <a:pt x="1211" y="3215"/>
                    <a:pt x="1211" y="3215"/>
                  </a:cubicBezTo>
                  <a:cubicBezTo>
                    <a:pt x="1213" y="3158"/>
                    <a:pt x="1216" y="3108"/>
                    <a:pt x="1202" y="3050"/>
                  </a:cubicBezTo>
                  <a:cubicBezTo>
                    <a:pt x="1192" y="3021"/>
                    <a:pt x="1174" y="2988"/>
                    <a:pt x="1158" y="2964"/>
                  </a:cubicBezTo>
                  <a:cubicBezTo>
                    <a:pt x="1123" y="2911"/>
                    <a:pt x="1123" y="2839"/>
                    <a:pt x="1086" y="2784"/>
                  </a:cubicBezTo>
                  <a:cubicBezTo>
                    <a:pt x="1064" y="2672"/>
                    <a:pt x="1038" y="2533"/>
                    <a:pt x="1074" y="2424"/>
                  </a:cubicBezTo>
                  <a:cubicBezTo>
                    <a:pt x="1083" y="2397"/>
                    <a:pt x="1123" y="2373"/>
                    <a:pt x="1147" y="2357"/>
                  </a:cubicBezTo>
                  <a:cubicBezTo>
                    <a:pt x="1168" y="2343"/>
                    <a:pt x="1228" y="2315"/>
                    <a:pt x="1228" y="2321"/>
                  </a:cubicBezTo>
                  <a:cubicBezTo>
                    <a:pt x="1259" y="2315"/>
                    <a:pt x="1264" y="2301"/>
                    <a:pt x="1336" y="2306"/>
                  </a:cubicBezTo>
                  <a:cubicBezTo>
                    <a:pt x="1408" y="2311"/>
                    <a:pt x="1578" y="2301"/>
                    <a:pt x="1658" y="2352"/>
                  </a:cubicBezTo>
                  <a:cubicBezTo>
                    <a:pt x="1762" y="2424"/>
                    <a:pt x="1790" y="2527"/>
                    <a:pt x="1819" y="2613"/>
                  </a:cubicBezTo>
                  <a:cubicBezTo>
                    <a:pt x="1827" y="2637"/>
                    <a:pt x="1821" y="2663"/>
                    <a:pt x="1829" y="2687"/>
                  </a:cubicBezTo>
                  <a:cubicBezTo>
                    <a:pt x="1833" y="2699"/>
                    <a:pt x="1837" y="2736"/>
                    <a:pt x="1837" y="2736"/>
                  </a:cubicBezTo>
                  <a:cubicBezTo>
                    <a:pt x="1849" y="2982"/>
                    <a:pt x="1844" y="3048"/>
                    <a:pt x="1811" y="3311"/>
                  </a:cubicBezTo>
                  <a:cubicBezTo>
                    <a:pt x="1802" y="3336"/>
                    <a:pt x="1789" y="3362"/>
                    <a:pt x="1783" y="3375"/>
                  </a:cubicBezTo>
                  <a:cubicBezTo>
                    <a:pt x="1748" y="3411"/>
                    <a:pt x="1710" y="3498"/>
                    <a:pt x="1645" y="3549"/>
                  </a:cubicBezTo>
                  <a:cubicBezTo>
                    <a:pt x="1580" y="3600"/>
                    <a:pt x="1511" y="3659"/>
                    <a:pt x="1393" y="3683"/>
                  </a:cubicBezTo>
                  <a:cubicBezTo>
                    <a:pt x="1337" y="3679"/>
                    <a:pt x="989" y="3702"/>
                    <a:pt x="934" y="3693"/>
                  </a:cubicBezTo>
                  <a:cubicBezTo>
                    <a:pt x="884" y="3687"/>
                    <a:pt x="877" y="3678"/>
                    <a:pt x="833" y="3659"/>
                  </a:cubicBezTo>
                  <a:cubicBezTo>
                    <a:pt x="800" y="3637"/>
                    <a:pt x="767" y="3627"/>
                    <a:pt x="728" y="3609"/>
                  </a:cubicBezTo>
                  <a:cubicBezTo>
                    <a:pt x="693" y="3586"/>
                    <a:pt x="649" y="3568"/>
                    <a:pt x="618" y="3540"/>
                  </a:cubicBezTo>
                  <a:cubicBezTo>
                    <a:pt x="543" y="3474"/>
                    <a:pt x="473" y="3405"/>
                    <a:pt x="394" y="3345"/>
                  </a:cubicBezTo>
                  <a:cubicBezTo>
                    <a:pt x="353" y="3303"/>
                    <a:pt x="316" y="3250"/>
                    <a:pt x="270" y="3204"/>
                  </a:cubicBezTo>
                  <a:cubicBezTo>
                    <a:pt x="246" y="3180"/>
                    <a:pt x="231" y="3148"/>
                    <a:pt x="210" y="3120"/>
                  </a:cubicBezTo>
                  <a:cubicBezTo>
                    <a:pt x="187" y="3064"/>
                    <a:pt x="132" y="2952"/>
                    <a:pt x="107" y="2874"/>
                  </a:cubicBezTo>
                  <a:cubicBezTo>
                    <a:pt x="82" y="2799"/>
                    <a:pt x="59" y="2744"/>
                    <a:pt x="43" y="2666"/>
                  </a:cubicBezTo>
                  <a:cubicBezTo>
                    <a:pt x="35" y="2626"/>
                    <a:pt x="23" y="2559"/>
                    <a:pt x="17" y="2519"/>
                  </a:cubicBezTo>
                  <a:cubicBezTo>
                    <a:pt x="7" y="2455"/>
                    <a:pt x="8" y="2366"/>
                    <a:pt x="8" y="2366"/>
                  </a:cubicBezTo>
                  <a:cubicBezTo>
                    <a:pt x="12" y="2226"/>
                    <a:pt x="0" y="2156"/>
                    <a:pt x="11" y="2016"/>
                  </a:cubicBezTo>
                  <a:cubicBezTo>
                    <a:pt x="19" y="1907"/>
                    <a:pt x="139" y="1792"/>
                    <a:pt x="158" y="1752"/>
                  </a:cubicBezTo>
                  <a:cubicBezTo>
                    <a:pt x="240" y="1672"/>
                    <a:pt x="347" y="1584"/>
                    <a:pt x="521" y="1500"/>
                  </a:cubicBezTo>
                  <a:cubicBezTo>
                    <a:pt x="815" y="1448"/>
                    <a:pt x="878" y="1515"/>
                    <a:pt x="992" y="1575"/>
                  </a:cubicBezTo>
                  <a:cubicBezTo>
                    <a:pt x="1030" y="1596"/>
                    <a:pt x="1071" y="1625"/>
                    <a:pt x="1110" y="1644"/>
                  </a:cubicBezTo>
                  <a:cubicBezTo>
                    <a:pt x="1168" y="1671"/>
                    <a:pt x="1262" y="1706"/>
                    <a:pt x="1340" y="1737"/>
                  </a:cubicBezTo>
                  <a:cubicBezTo>
                    <a:pt x="1425" y="1769"/>
                    <a:pt x="1493" y="1785"/>
                    <a:pt x="1583" y="1803"/>
                  </a:cubicBezTo>
                  <a:cubicBezTo>
                    <a:pt x="1642" y="1815"/>
                    <a:pt x="1711" y="1818"/>
                    <a:pt x="1765" y="1829"/>
                  </a:cubicBezTo>
                  <a:cubicBezTo>
                    <a:pt x="1838" y="1830"/>
                    <a:pt x="1892" y="1848"/>
                    <a:pt x="1964" y="1842"/>
                  </a:cubicBezTo>
                  <a:cubicBezTo>
                    <a:pt x="2065" y="1837"/>
                    <a:pt x="2269" y="1807"/>
                    <a:pt x="2369" y="1782"/>
                  </a:cubicBezTo>
                  <a:cubicBezTo>
                    <a:pt x="2436" y="1760"/>
                    <a:pt x="2500" y="1726"/>
                    <a:pt x="2562" y="1692"/>
                  </a:cubicBezTo>
                  <a:cubicBezTo>
                    <a:pt x="2625" y="1637"/>
                    <a:pt x="2736" y="1531"/>
                    <a:pt x="2788" y="1460"/>
                  </a:cubicBezTo>
                  <a:cubicBezTo>
                    <a:pt x="2840" y="1389"/>
                    <a:pt x="2856" y="1324"/>
                    <a:pt x="2875" y="1266"/>
                  </a:cubicBezTo>
                  <a:cubicBezTo>
                    <a:pt x="2894" y="1208"/>
                    <a:pt x="2907" y="1172"/>
                    <a:pt x="2903" y="1110"/>
                  </a:cubicBezTo>
                  <a:cubicBezTo>
                    <a:pt x="2898" y="1022"/>
                    <a:pt x="2887" y="978"/>
                    <a:pt x="2851" y="894"/>
                  </a:cubicBezTo>
                  <a:cubicBezTo>
                    <a:pt x="2822" y="825"/>
                    <a:pt x="2768" y="743"/>
                    <a:pt x="2730" y="696"/>
                  </a:cubicBezTo>
                  <a:cubicBezTo>
                    <a:pt x="2699" y="665"/>
                    <a:pt x="2670" y="634"/>
                    <a:pt x="2636" y="606"/>
                  </a:cubicBezTo>
                  <a:cubicBezTo>
                    <a:pt x="2574" y="554"/>
                    <a:pt x="2545" y="512"/>
                    <a:pt x="2440" y="492"/>
                  </a:cubicBezTo>
                  <a:cubicBezTo>
                    <a:pt x="2384" y="480"/>
                    <a:pt x="2345" y="483"/>
                    <a:pt x="2290" y="485"/>
                  </a:cubicBezTo>
                  <a:cubicBezTo>
                    <a:pt x="2235" y="487"/>
                    <a:pt x="2165" y="486"/>
                    <a:pt x="2108" y="504"/>
                  </a:cubicBezTo>
                  <a:cubicBezTo>
                    <a:pt x="2029" y="533"/>
                    <a:pt x="2034" y="612"/>
                    <a:pt x="2034" y="612"/>
                  </a:cubicBezTo>
                  <a:cubicBezTo>
                    <a:pt x="2067" y="710"/>
                    <a:pt x="2162" y="699"/>
                    <a:pt x="2246" y="720"/>
                  </a:cubicBezTo>
                  <a:cubicBezTo>
                    <a:pt x="2306" y="728"/>
                    <a:pt x="2338" y="724"/>
                    <a:pt x="2377" y="735"/>
                  </a:cubicBezTo>
                  <a:cubicBezTo>
                    <a:pt x="2416" y="746"/>
                    <a:pt x="2444" y="764"/>
                    <a:pt x="2480" y="786"/>
                  </a:cubicBezTo>
                  <a:cubicBezTo>
                    <a:pt x="2492" y="789"/>
                    <a:pt x="2572" y="842"/>
                    <a:pt x="2593" y="866"/>
                  </a:cubicBezTo>
                  <a:cubicBezTo>
                    <a:pt x="2617" y="890"/>
                    <a:pt x="2634" y="942"/>
                    <a:pt x="2634" y="942"/>
                  </a:cubicBezTo>
                  <a:cubicBezTo>
                    <a:pt x="2670" y="1038"/>
                    <a:pt x="2669" y="1127"/>
                    <a:pt x="2682" y="1218"/>
                  </a:cubicBezTo>
                  <a:cubicBezTo>
                    <a:pt x="2672" y="1334"/>
                    <a:pt x="2656" y="1337"/>
                    <a:pt x="2600" y="1412"/>
                  </a:cubicBezTo>
                  <a:cubicBezTo>
                    <a:pt x="2547" y="1472"/>
                    <a:pt x="2503" y="1516"/>
                    <a:pt x="2431" y="1547"/>
                  </a:cubicBezTo>
                  <a:cubicBezTo>
                    <a:pt x="2359" y="1578"/>
                    <a:pt x="2283" y="1596"/>
                    <a:pt x="2165" y="1598"/>
                  </a:cubicBezTo>
                  <a:cubicBezTo>
                    <a:pt x="2003" y="1610"/>
                    <a:pt x="1874" y="1571"/>
                    <a:pt x="1722" y="1560"/>
                  </a:cubicBezTo>
                  <a:cubicBezTo>
                    <a:pt x="1621" y="1545"/>
                    <a:pt x="1618" y="1554"/>
                    <a:pt x="1548" y="1530"/>
                  </a:cubicBezTo>
                  <a:cubicBezTo>
                    <a:pt x="1474" y="1505"/>
                    <a:pt x="1353" y="1472"/>
                    <a:pt x="1296" y="1434"/>
                  </a:cubicBezTo>
                  <a:cubicBezTo>
                    <a:pt x="1231" y="1403"/>
                    <a:pt x="1186" y="1386"/>
                    <a:pt x="1158" y="1368"/>
                  </a:cubicBezTo>
                  <a:cubicBezTo>
                    <a:pt x="1125" y="1345"/>
                    <a:pt x="1098" y="1330"/>
                    <a:pt x="1074" y="1314"/>
                  </a:cubicBezTo>
                  <a:cubicBezTo>
                    <a:pt x="1045" y="1300"/>
                    <a:pt x="1006" y="1259"/>
                    <a:pt x="978" y="1242"/>
                  </a:cubicBezTo>
                  <a:cubicBezTo>
                    <a:pt x="936" y="1203"/>
                    <a:pt x="862" y="1144"/>
                    <a:pt x="822" y="1080"/>
                  </a:cubicBezTo>
                  <a:cubicBezTo>
                    <a:pt x="789" y="1032"/>
                    <a:pt x="780" y="1013"/>
                    <a:pt x="767" y="980"/>
                  </a:cubicBezTo>
                  <a:cubicBezTo>
                    <a:pt x="753" y="945"/>
                    <a:pt x="745" y="920"/>
                    <a:pt x="737" y="870"/>
                  </a:cubicBezTo>
                  <a:cubicBezTo>
                    <a:pt x="731" y="802"/>
                    <a:pt x="744" y="741"/>
                    <a:pt x="754" y="674"/>
                  </a:cubicBezTo>
                  <a:cubicBezTo>
                    <a:pt x="761" y="626"/>
                    <a:pt x="848" y="523"/>
                    <a:pt x="874" y="488"/>
                  </a:cubicBezTo>
                  <a:cubicBezTo>
                    <a:pt x="937" y="420"/>
                    <a:pt x="1045" y="334"/>
                    <a:pt x="1150" y="261"/>
                  </a:cubicBezTo>
                  <a:cubicBezTo>
                    <a:pt x="1243" y="199"/>
                    <a:pt x="1440" y="123"/>
                    <a:pt x="1498" y="95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7101360" y="5923800"/>
              <a:ext cx="1279800" cy="39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MBI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28600" y="6095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. en C. Elsa Esquivel Baz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029200" y="380880"/>
            <a:ext cx="4114800" cy="2971800"/>
            <a:chOff x="5029200" y="380880"/>
            <a:chExt cx="4114800" cy="2971800"/>
          </a:xfrm>
        </p:grpSpPr>
        <p:sp>
          <p:nvSpPr>
            <p:cNvPr id="48" name=""/>
            <p:cNvSpPr/>
            <p:nvPr/>
          </p:nvSpPr>
          <p:spPr>
            <a:xfrm>
              <a:off x="5029200" y="380880"/>
              <a:ext cx="4114800" cy="2971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d6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5512320" y="1090080"/>
              <a:ext cx="2758680" cy="186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 txBox="1"/>
            <p:nvPr/>
          </p:nvSpPr>
          <p:spPr>
            <a:xfrm>
              <a:off x="5281200" y="667440"/>
              <a:ext cx="3606120" cy="2499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47ff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 Black"/>
                </a:rPr>
                <a:t>Captura de Carb   no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8289720" y="923400"/>
              <a:ext cx="505440" cy="610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685800"/>
            <a:ext cx="80773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50% pertenece a una etnia indígena de México: tzeltales, tzotziles, tojolabales, choles, lacandones, mixes, chinante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ductores de subsistencia (maíz, frijol, caf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istemas agrícolas y forestales de diversos 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ajo consumo de agro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rvicios básicos (luz, agua, teléfono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68720" y="2514600"/>
            <a:ext cx="620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75000" y="4800600"/>
            <a:ext cx="620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51640" y="4648320"/>
            <a:ext cx="618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2438280"/>
            <a:ext cx="620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75000" y="1447920"/>
            <a:ext cx="2482920" cy="761760"/>
          </a:xfrm>
          <a:prstGeom prst="flowChartTerminator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A  - 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733920"/>
            <a:ext cx="1076040" cy="69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37000" y="3809880"/>
            <a:ext cx="2068560" cy="5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BIO -EC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3733920"/>
            <a:ext cx="1484280" cy="69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N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BIO - EC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3080" y="5410080"/>
            <a:ext cx="2481120" cy="762120"/>
          </a:xfrm>
          <a:prstGeom prst="flowChartTerminator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43560" y="220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95640" y="4495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4495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89360" y="220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3040" y="3984480"/>
            <a:ext cx="62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83400" y="3984480"/>
            <a:ext cx="618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98800" y="3200400"/>
            <a:ext cx="3341520" cy="5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DEICOM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DO BIOCLIMA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TRUCTURA DE SCOLEL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FUNCIONAMIENTO DE SCOLEL-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33520"/>
            <a:ext cx="7619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414520"/>
            <a:ext cx="2666880" cy="152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valu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lanes v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(Especific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écn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58760" y="685800"/>
            <a:ext cx="8423280" cy="5409720"/>
            <a:chOff x="158760" y="685800"/>
            <a:chExt cx="8423280" cy="5409720"/>
          </a:xfrm>
        </p:grpSpPr>
        <p:sp>
          <p:nvSpPr>
            <p:cNvPr id="105" name=""/>
            <p:cNvSpPr/>
            <p:nvPr/>
          </p:nvSpPr>
          <p:spPr>
            <a:xfrm>
              <a:off x="276120" y="2250720"/>
              <a:ext cx="1752840" cy="16761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Seguimi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y monitor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cam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8760" y="4419360"/>
              <a:ext cx="3657600" cy="1142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Administración 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registro de inform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43360" y="685800"/>
              <a:ext cx="2743200" cy="12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Visitas/capaci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a 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comun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57560" y="137124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6120" y="761760"/>
              <a:ext cx="1981440" cy="1066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Grup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interesado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48320" y="685800"/>
              <a:ext cx="2133720" cy="1142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Elaboración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Planes v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32160" y="2350800"/>
              <a:ext cx="1752840" cy="13712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Regist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de 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v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95840" y="4343040"/>
              <a:ext cx="3809880" cy="175248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Arial Unicode MS"/>
                </a:rPr>
                <a:t>REUN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Arial Unicode MS"/>
                </a:rPr>
                <a:t>SEMESTR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38840" y="13712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91320" y="1981080"/>
              <a:ext cx="648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934240" y="3065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4440" y="4009680"/>
              <a:ext cx="0" cy="33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8440" y="2384280"/>
              <a:ext cx="1371600" cy="1937880"/>
            </a:xfrm>
            <a:prstGeom prst="rect">
              <a:avLst/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Es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cimi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722760" y="3117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028960" y="31064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35000" y="586908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da una de las fases puede ser respalda tanto por documentos, como por minutas,  formatos, evaluacion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RINCIPALES SISTEMAS AGROFORES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51055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cah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j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51055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aung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685800"/>
            <a:ext cx="7086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66720" y="9907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105520" y="914400"/>
            <a:ext cx="29494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419720" cy="378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0880" y="4572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fetal Mej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876920" y="30492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05520" y="5943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o V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3659400" cy="4876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572000" y="13716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55627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sta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495288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838080"/>
            <a:ext cx="4191120" cy="64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carbono potencialmente capturado en el ciclo de crecimiento del árbol se paga en los primeros diez añ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Año 1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1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Año 2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1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Año 3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1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Año 5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1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ño 10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ño 20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0 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nd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ting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495680" y="533520"/>
            <a:ext cx="4032360" cy="2642760"/>
            <a:chOff x="4495680" y="533520"/>
            <a:chExt cx="4032360" cy="2642760"/>
          </a:xfrm>
        </p:grpSpPr>
        <p:sp>
          <p:nvSpPr>
            <p:cNvPr id="137" name=""/>
            <p:cNvSpPr/>
            <p:nvPr/>
          </p:nvSpPr>
          <p:spPr>
            <a:xfrm>
              <a:off x="4495680" y="2854440"/>
              <a:ext cx="403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13040" y="2869200"/>
              <a:ext cx="188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DIAMETRO  (EDA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625000" y="2548080"/>
              <a:ext cx="157320" cy="306720"/>
              <a:chOff x="5625000" y="2548080"/>
              <a:chExt cx="157320" cy="306720"/>
            </a:xfrm>
          </p:grpSpPr>
          <p:sp>
            <p:nvSpPr>
              <p:cNvPr id="140" name=""/>
              <p:cNvSpPr/>
              <p:nvPr/>
            </p:nvSpPr>
            <p:spPr>
              <a:xfrm rot="21534000">
                <a:off x="5627160" y="2549160"/>
                <a:ext cx="152280" cy="260640"/>
              </a:xfrm>
              <a:custGeom>
                <a:avLst/>
                <a:gdLst/>
                <a:ahLst/>
                <a:rect l="l" t="t" r="r" b="b"/>
                <a:pathLst>
                  <a:path w="1632" h="3072">
                    <a:moveTo>
                      <a:pt x="768" y="0"/>
                    </a:moveTo>
                    <a:lnTo>
                      <a:pt x="1440" y="1056"/>
                    </a:lnTo>
                    <a:lnTo>
                      <a:pt x="1152" y="1104"/>
                    </a:lnTo>
                    <a:lnTo>
                      <a:pt x="1488" y="1920"/>
                    </a:lnTo>
                    <a:lnTo>
                      <a:pt x="1296" y="1872"/>
                    </a:lnTo>
                    <a:lnTo>
                      <a:pt x="1584" y="2400"/>
                    </a:lnTo>
                    <a:lnTo>
                      <a:pt x="1248" y="2400"/>
                    </a:lnTo>
                    <a:lnTo>
                      <a:pt x="1632" y="3072"/>
                    </a:lnTo>
                    <a:lnTo>
                      <a:pt x="912" y="2784"/>
                    </a:lnTo>
                    <a:lnTo>
                      <a:pt x="144" y="2928"/>
                    </a:lnTo>
                    <a:lnTo>
                      <a:pt x="384" y="2208"/>
                    </a:lnTo>
                    <a:lnTo>
                      <a:pt x="0" y="2208"/>
                    </a:lnTo>
                    <a:lnTo>
                      <a:pt x="528" y="1488"/>
                    </a:lnTo>
                    <a:lnTo>
                      <a:pt x="336" y="1632"/>
                    </a:lnTo>
                    <a:lnTo>
                      <a:pt x="432" y="960"/>
                    </a:lnTo>
                    <a:lnTo>
                      <a:pt x="192" y="1104"/>
                    </a:lnTo>
                    <a:lnTo>
                      <a:pt x="768" y="0"/>
                    </a:lnTo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534000">
                <a:off x="5631840" y="2585880"/>
                <a:ext cx="147600" cy="162720"/>
              </a:xfrm>
              <a:custGeom>
                <a:avLst/>
                <a:gdLst/>
                <a:ahLst/>
                <a:rect l="l" t="t" r="r" b="b"/>
                <a:pathLst>
                  <a:path w="1584" h="1920">
                    <a:moveTo>
                      <a:pt x="192" y="1920"/>
                    </a:moveTo>
                    <a:lnTo>
                      <a:pt x="528" y="1056"/>
                    </a:lnTo>
                    <a:lnTo>
                      <a:pt x="0" y="1152"/>
                    </a:lnTo>
                    <a:lnTo>
                      <a:pt x="816" y="0"/>
                    </a:lnTo>
                    <a:lnTo>
                      <a:pt x="1584" y="1440"/>
                    </a:lnTo>
                    <a:lnTo>
                      <a:pt x="1008" y="1152"/>
                    </a:lnTo>
                    <a:lnTo>
                      <a:pt x="192" y="1920"/>
                    </a:lnTo>
                    <a:close/>
                  </a:path>
                </a:pathLst>
              </a:custGeom>
              <a:solidFill>
                <a:srgbClr val="00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534000">
                <a:off x="5688000" y="2752920"/>
                <a:ext cx="35640" cy="101520"/>
              </a:xfrm>
              <a:custGeom>
                <a:avLst/>
                <a:gdLst/>
                <a:ahLst/>
                <a:rect l="l" t="t" r="r" b="b"/>
                <a:pathLst>
                  <a:path w="384" h="1200">
                    <a:moveTo>
                      <a:pt x="0" y="1104"/>
                    </a:moveTo>
                    <a:lnTo>
                      <a:pt x="0" y="336"/>
                    </a:lnTo>
                    <a:lnTo>
                      <a:pt x="384" y="0"/>
                    </a:lnTo>
                    <a:lnTo>
                      <a:pt x="384" y="1152"/>
                    </a:lnTo>
                    <a:lnTo>
                      <a:pt x="240" y="1200"/>
                    </a:lnTo>
                    <a:lnTo>
                      <a:pt x="144" y="1200"/>
                    </a:lnTo>
                    <a:lnTo>
                      <a:pt x="48" y="1152"/>
                    </a:lnTo>
                    <a:lnTo>
                      <a:pt x="0" y="1104"/>
                    </a:ln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10320" y="2790360"/>
                <a:ext cx="720" cy="1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98080" y="2810520"/>
                <a:ext cx="720" cy="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7034760" y="1400400"/>
              <a:ext cx="706320" cy="1447560"/>
              <a:chOff x="7034760" y="1400400"/>
              <a:chExt cx="706320" cy="1447560"/>
            </a:xfrm>
          </p:grpSpPr>
          <p:sp>
            <p:nvSpPr>
              <p:cNvPr id="146" name=""/>
              <p:cNvSpPr/>
              <p:nvPr/>
            </p:nvSpPr>
            <p:spPr>
              <a:xfrm rot="21534000">
                <a:off x="7046280" y="1406520"/>
                <a:ext cx="682920" cy="1229760"/>
              </a:xfrm>
              <a:custGeom>
                <a:avLst/>
                <a:gdLst/>
                <a:ahLst/>
                <a:rect l="l" t="t" r="r" b="b"/>
                <a:pathLst>
                  <a:path w="1632" h="3072">
                    <a:moveTo>
                      <a:pt x="768" y="0"/>
                    </a:moveTo>
                    <a:lnTo>
                      <a:pt x="1440" y="1056"/>
                    </a:lnTo>
                    <a:lnTo>
                      <a:pt x="1152" y="1104"/>
                    </a:lnTo>
                    <a:lnTo>
                      <a:pt x="1488" y="1920"/>
                    </a:lnTo>
                    <a:lnTo>
                      <a:pt x="1296" y="1872"/>
                    </a:lnTo>
                    <a:lnTo>
                      <a:pt x="1584" y="2400"/>
                    </a:lnTo>
                    <a:lnTo>
                      <a:pt x="1248" y="2400"/>
                    </a:lnTo>
                    <a:lnTo>
                      <a:pt x="1632" y="3072"/>
                    </a:lnTo>
                    <a:lnTo>
                      <a:pt x="912" y="2784"/>
                    </a:lnTo>
                    <a:lnTo>
                      <a:pt x="144" y="2928"/>
                    </a:lnTo>
                    <a:lnTo>
                      <a:pt x="384" y="2208"/>
                    </a:lnTo>
                    <a:lnTo>
                      <a:pt x="0" y="2208"/>
                    </a:lnTo>
                    <a:lnTo>
                      <a:pt x="528" y="1488"/>
                    </a:lnTo>
                    <a:lnTo>
                      <a:pt x="336" y="1632"/>
                    </a:lnTo>
                    <a:lnTo>
                      <a:pt x="432" y="960"/>
                    </a:lnTo>
                    <a:lnTo>
                      <a:pt x="192" y="1104"/>
                    </a:lnTo>
                    <a:lnTo>
                      <a:pt x="768" y="0"/>
                    </a:lnTo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534000">
                <a:off x="7065720" y="1578240"/>
                <a:ext cx="662040" cy="767880"/>
              </a:xfrm>
              <a:custGeom>
                <a:avLst/>
                <a:gdLst/>
                <a:ahLst/>
                <a:rect l="l" t="t" r="r" b="b"/>
                <a:pathLst>
                  <a:path w="1584" h="1920">
                    <a:moveTo>
                      <a:pt x="192" y="1920"/>
                    </a:moveTo>
                    <a:lnTo>
                      <a:pt x="528" y="1056"/>
                    </a:lnTo>
                    <a:lnTo>
                      <a:pt x="0" y="1152"/>
                    </a:lnTo>
                    <a:lnTo>
                      <a:pt x="816" y="0"/>
                    </a:lnTo>
                    <a:lnTo>
                      <a:pt x="1584" y="1440"/>
                    </a:lnTo>
                    <a:lnTo>
                      <a:pt x="1008" y="1152"/>
                    </a:lnTo>
                    <a:lnTo>
                      <a:pt x="192" y="1920"/>
                    </a:lnTo>
                    <a:close/>
                  </a:path>
                </a:pathLst>
              </a:custGeom>
              <a:solidFill>
                <a:srgbClr val="00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1534000">
                <a:off x="7318800" y="2365920"/>
                <a:ext cx="160200" cy="480240"/>
              </a:xfrm>
              <a:custGeom>
                <a:avLst/>
                <a:gdLst/>
                <a:ahLst/>
                <a:rect l="l" t="t" r="r" b="b"/>
                <a:pathLst>
                  <a:path w="384" h="1200">
                    <a:moveTo>
                      <a:pt x="0" y="1104"/>
                    </a:moveTo>
                    <a:lnTo>
                      <a:pt x="0" y="336"/>
                    </a:lnTo>
                    <a:lnTo>
                      <a:pt x="384" y="0"/>
                    </a:lnTo>
                    <a:lnTo>
                      <a:pt x="384" y="1152"/>
                    </a:lnTo>
                    <a:lnTo>
                      <a:pt x="240" y="1200"/>
                    </a:lnTo>
                    <a:lnTo>
                      <a:pt x="144" y="1200"/>
                    </a:lnTo>
                    <a:lnTo>
                      <a:pt x="48" y="1152"/>
                    </a:lnTo>
                    <a:lnTo>
                      <a:pt x="0" y="1104"/>
                    </a:ln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418160" y="2544120"/>
                <a:ext cx="1440" cy="9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63440" y="2638800"/>
                <a:ext cx="2160" cy="11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166080" y="1936800"/>
              <a:ext cx="354960" cy="924120"/>
              <a:chOff x="6166080" y="1936800"/>
              <a:chExt cx="354960" cy="924120"/>
            </a:xfrm>
          </p:grpSpPr>
          <p:sp>
            <p:nvSpPr>
              <p:cNvPr id="152" name=""/>
              <p:cNvSpPr/>
              <p:nvPr/>
            </p:nvSpPr>
            <p:spPr>
              <a:xfrm rot="21534000">
                <a:off x="6173280" y="1939680"/>
                <a:ext cx="339840" cy="786240"/>
              </a:xfrm>
              <a:custGeom>
                <a:avLst/>
                <a:gdLst/>
                <a:ahLst/>
                <a:rect l="l" t="t" r="r" b="b"/>
                <a:pathLst>
                  <a:path w="1632" h="3072">
                    <a:moveTo>
                      <a:pt x="768" y="0"/>
                    </a:moveTo>
                    <a:lnTo>
                      <a:pt x="1440" y="1056"/>
                    </a:lnTo>
                    <a:lnTo>
                      <a:pt x="1152" y="1104"/>
                    </a:lnTo>
                    <a:lnTo>
                      <a:pt x="1488" y="1920"/>
                    </a:lnTo>
                    <a:lnTo>
                      <a:pt x="1296" y="1872"/>
                    </a:lnTo>
                    <a:lnTo>
                      <a:pt x="1584" y="2400"/>
                    </a:lnTo>
                    <a:lnTo>
                      <a:pt x="1248" y="2400"/>
                    </a:lnTo>
                    <a:lnTo>
                      <a:pt x="1632" y="3072"/>
                    </a:lnTo>
                    <a:lnTo>
                      <a:pt x="912" y="2784"/>
                    </a:lnTo>
                    <a:lnTo>
                      <a:pt x="144" y="2928"/>
                    </a:lnTo>
                    <a:lnTo>
                      <a:pt x="384" y="2208"/>
                    </a:lnTo>
                    <a:lnTo>
                      <a:pt x="0" y="2208"/>
                    </a:lnTo>
                    <a:lnTo>
                      <a:pt x="528" y="1488"/>
                    </a:lnTo>
                    <a:lnTo>
                      <a:pt x="336" y="1632"/>
                    </a:lnTo>
                    <a:lnTo>
                      <a:pt x="432" y="960"/>
                    </a:lnTo>
                    <a:lnTo>
                      <a:pt x="192" y="1104"/>
                    </a:lnTo>
                    <a:lnTo>
                      <a:pt x="768" y="0"/>
                    </a:lnTo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1534000">
                <a:off x="6183000" y="2049840"/>
                <a:ext cx="329400" cy="491040"/>
              </a:xfrm>
              <a:custGeom>
                <a:avLst/>
                <a:gdLst/>
                <a:ahLst/>
                <a:rect l="l" t="t" r="r" b="b"/>
                <a:pathLst>
                  <a:path w="1584" h="1920">
                    <a:moveTo>
                      <a:pt x="192" y="1920"/>
                    </a:moveTo>
                    <a:lnTo>
                      <a:pt x="528" y="1056"/>
                    </a:lnTo>
                    <a:lnTo>
                      <a:pt x="0" y="1152"/>
                    </a:lnTo>
                    <a:lnTo>
                      <a:pt x="816" y="0"/>
                    </a:lnTo>
                    <a:lnTo>
                      <a:pt x="1584" y="1440"/>
                    </a:lnTo>
                    <a:lnTo>
                      <a:pt x="1008" y="1152"/>
                    </a:lnTo>
                    <a:lnTo>
                      <a:pt x="192" y="1920"/>
                    </a:lnTo>
                    <a:close/>
                  </a:path>
                </a:pathLst>
              </a:custGeom>
              <a:solidFill>
                <a:srgbClr val="00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1534000">
                <a:off x="6309360" y="2553120"/>
                <a:ext cx="79560" cy="306720"/>
              </a:xfrm>
              <a:custGeom>
                <a:avLst/>
                <a:gdLst/>
                <a:ahLst/>
                <a:rect l="l" t="t" r="r" b="b"/>
                <a:pathLst>
                  <a:path w="384" h="1200">
                    <a:moveTo>
                      <a:pt x="0" y="1104"/>
                    </a:moveTo>
                    <a:lnTo>
                      <a:pt x="0" y="336"/>
                    </a:lnTo>
                    <a:lnTo>
                      <a:pt x="384" y="0"/>
                    </a:lnTo>
                    <a:lnTo>
                      <a:pt x="384" y="1152"/>
                    </a:lnTo>
                    <a:lnTo>
                      <a:pt x="240" y="1200"/>
                    </a:lnTo>
                    <a:lnTo>
                      <a:pt x="144" y="1200"/>
                    </a:lnTo>
                    <a:lnTo>
                      <a:pt x="48" y="1152"/>
                    </a:lnTo>
                    <a:lnTo>
                      <a:pt x="0" y="1104"/>
                    </a:ln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58320" y="2667240"/>
                <a:ext cx="1440" cy="5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30960" y="2727720"/>
                <a:ext cx="14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605120" y="533520"/>
              <a:ext cx="9720" cy="2489040"/>
            </a:xfrm>
            <a:custGeom>
              <a:avLst/>
              <a:gdLst/>
              <a:ahLst/>
              <a:rect l="l" t="t" r="r" b="b"/>
              <a:pathLst>
                <a:path w="6" h="1568">
                  <a:moveTo>
                    <a:pt x="0" y="0"/>
                  </a:moveTo>
                  <a:lnTo>
                    <a:pt x="6" y="15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74960" y="1326960"/>
              <a:ext cx="3448080" cy="1479600"/>
            </a:xfrm>
            <a:custGeom>
              <a:avLst/>
              <a:gdLst/>
              <a:ahLst/>
              <a:rect l="l" t="t" r="r" b="b"/>
              <a:pathLst>
                <a:path w="2172" h="932">
                  <a:moveTo>
                    <a:pt x="0" y="932"/>
                  </a:moveTo>
                  <a:cubicBezTo>
                    <a:pt x="99" y="906"/>
                    <a:pt x="393" y="896"/>
                    <a:pt x="594" y="776"/>
                  </a:cubicBezTo>
                  <a:cubicBezTo>
                    <a:pt x="795" y="656"/>
                    <a:pt x="1038" y="334"/>
                    <a:pt x="1206" y="210"/>
                  </a:cubicBezTo>
                  <a:cubicBezTo>
                    <a:pt x="1374" y="86"/>
                    <a:pt x="1441" y="64"/>
                    <a:pt x="1602" y="32"/>
                  </a:cubicBezTo>
                  <a:cubicBezTo>
                    <a:pt x="1763" y="0"/>
                    <a:pt x="2053" y="22"/>
                    <a:pt x="2172" y="2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684680" y="1253160"/>
              <a:ext cx="3448080" cy="1479240"/>
            </a:xfrm>
            <a:custGeom>
              <a:avLst/>
              <a:gdLst/>
              <a:ahLst/>
              <a:rect l="l" t="t" r="r" b="b"/>
              <a:pathLst>
                <a:path w="2172" h="932">
                  <a:moveTo>
                    <a:pt x="0" y="932"/>
                  </a:moveTo>
                  <a:cubicBezTo>
                    <a:pt x="99" y="906"/>
                    <a:pt x="393" y="896"/>
                    <a:pt x="594" y="776"/>
                  </a:cubicBezTo>
                  <a:cubicBezTo>
                    <a:pt x="795" y="656"/>
                    <a:pt x="1038" y="334"/>
                    <a:pt x="1206" y="210"/>
                  </a:cubicBezTo>
                  <a:cubicBezTo>
                    <a:pt x="1374" y="86"/>
                    <a:pt x="1441" y="64"/>
                    <a:pt x="1602" y="32"/>
                  </a:cubicBezTo>
                  <a:cubicBezTo>
                    <a:pt x="1763" y="0"/>
                    <a:pt x="2053" y="22"/>
                    <a:pt x="2172" y="20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648320" y="3809880"/>
            <a:ext cx="4114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xiste compromiso de compra solo por los primeros 5 año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a el año 10 depende de la situación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04360" y="357120"/>
            <a:ext cx="40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Administración y pag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838080"/>
            <a:ext cx="5105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228600"/>
            <a:ext cx="54100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Arial"/>
              </a:rPr>
              <a:t>Administración y pagos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Cada productor tiene su libreta de carbono en el que se detal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onitoreos y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u compromis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Pagos,  cuanto a cobrado. Dicha libreta esta relacionada con las áreas específicas de cada venta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4680000"/>
            <a:ext cx="3809880" cy="217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410080" y="3581280"/>
            <a:ext cx="3353040" cy="223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 flipV="1">
            <a:off x="2362320" y="4038480"/>
            <a:ext cx="2819160" cy="182880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248520" y="2285640"/>
            <a:ext cx="1828800" cy="15238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762120"/>
            <a:ext cx="4952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7391520" y="304920"/>
            <a:ext cx="14634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3880" y="3808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MPACTOS 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219320"/>
            <a:ext cx="82296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scate de areas degradadas o subuti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riquecimiento y mantenimiento de la diversidad florística en los sistemas agroforestales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moción del rescate de especies nativas forestales (</a:t>
            </a: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Pinus chiapensis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rdenamiento territorial (prevencion de incend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scate de practicas de conservación de suelos y protección de fuentes de agua comunitaria (manant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838080"/>
            <a:ext cx="5105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304920"/>
            <a:ext cx="807732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ENEFICIO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poyo al ingreso familiar y com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ejoramiento de  sistemas de producción (ganaderia de traspatio, mejoramiento de pastiz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rtalecimiento de la organización com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ientizacion de la conservación de los recurso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tercambio de experiencias entre com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tegración  e impulso de proyectos a nivel com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838080"/>
            <a:ext cx="5105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09680" y="457200"/>
            <a:ext cx="4267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Unicode MS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Estudio de Factibilidad y viabilidad para un proyec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aptura carbono en Chiapas (Scolel-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ivo: Conocer el potencial de captura de carbono en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munidades, así como evaluar los factores socioeconóm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y culturales  que influirían en la viabilidad de la propuesta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rvici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troalimentación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valuación y selección de los diferentes sistemas forest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y agrofores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valuación socioeconómica y de costos, propuesta de prec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 mercado (dlls por tonelada de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06668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90840" y="369720"/>
            <a:ext cx="60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ONCLUSIONES Y RECOMEN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914400"/>
            <a:ext cx="8915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 inserción de servicios ambientales en las uni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amiliares debe basarse en la capacidad territorial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ductiva de las áreas r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os sistemas forestales y agroforestales deben es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daptados a las condiciones del prod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 permanencia en el largo plazo de las plantacion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pende en gran medida de la vocación forestal que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ogre desarrollar en los participantes, entendiend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e es un proceso lento y a larg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914400"/>
            <a:ext cx="6476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1219320"/>
            <a:ext cx="685800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OPERATIVA 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mbiofbc@prodigy.net.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www.planvivo.or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09680" y="990720"/>
            <a:ext cx="4800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495680"/>
            <a:ext cx="8381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2000 – actu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roceso de </a:t>
            </a:r>
            <a:r>
              <a:rPr b="1" i="1" lang="es-MX" sz="2400" spc="-1" strike="noStrike">
                <a:solidFill>
                  <a:srgbClr val="000000"/>
                </a:solidFill>
                <a:latin typeface="Tahoma"/>
              </a:rPr>
              <a:t>Fortale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Difusión de la experiencia nivel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4200" y="2944800"/>
            <a:ext cx="7924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1997 a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roceso de </a:t>
            </a:r>
            <a:r>
              <a:rPr b="1" i="1" lang="es-MX" sz="2400" spc="-1" strike="noStrike">
                <a:solidFill>
                  <a:srgbClr val="000000"/>
                </a:solidFill>
                <a:latin typeface="Tahoma"/>
              </a:rPr>
              <a:t>Establecimiento y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523880"/>
            <a:ext cx="8175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reación del Fideicomiso Fondo Bioclimático (FBC)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Banco de Crédito Rural (BANRURAL), con sede SC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228600"/>
            <a:ext cx="4267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304920"/>
            <a:ext cx="861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Result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iseño y desarrollo de un sistema de seguimiento,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y monitoreo para la venta de servicios ambientales a peque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cala (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Sistema Plan Vivo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s-MX" sz="2400" spc="-1" strike="noStrike">
                <a:solidFill>
                  <a:srgbClr val="0000ff"/>
                </a:solidFill>
                <a:latin typeface="Tahoma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685800"/>
            <a:ext cx="5334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Unicode MS"/>
              </a:rPr>
              <a:t>HERRAMIENTA PLAN V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838080"/>
            <a:ext cx="4267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Final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acilitar la comunicación en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ductores y téc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762120"/>
            <a:ext cx="5638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25920" y="1143000"/>
            <a:ext cx="4495680" cy="3492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24382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onocer el 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de las parcelas del pro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laneación del desarro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roductivo de las parce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 de trabaj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76200" y="179280"/>
            <a:ext cx="6629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UBICACIÓN D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Estados de Chiapas y Oaxaca; 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042920"/>
            <a:ext cx="685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71629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228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RACTERÍSTICAS AMBIENT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219320"/>
            <a:ext cx="76960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Zonas de alta biodiversidad y riqu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uentes importantes de agua (selva lacandon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to potencial para el desarrollo ecoturi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giones con especies en peligro de extinción y o amenaz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eficiencia en el manejo de los sistemas agropecuarios (presencia de incendios, erosión  de suelos, deforestación,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istemas de producción biodiversos amenazados (cafetal con somb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762120"/>
            <a:ext cx="685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720720"/>
            <a:ext cx="8763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up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jidatarios, comuneros y pequeños produ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87280" y="1741320"/>
            <a:ext cx="4572000" cy="34290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836960" y="3646440"/>
            <a:ext cx="4038840" cy="302904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371600" y="228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RACTERISTICA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685800"/>
            <a:ext cx="685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457200"/>
            <a:ext cx="7924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queños produ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ango de propiedad  de 2-50 has por pro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tación de 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ierra de propiedad  ejidal o comu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98440" y="3457440"/>
            <a:ext cx="4267080" cy="3200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67440" cy="3200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1:02:41Z</dcterms:created>
  <dc:creator>Usuario Autorizado de HP</dc:creator>
  <dc:description/>
  <dc:language>en-US</dc:language>
  <cp:lastModifiedBy>cuitlahuac.delgado</cp:lastModifiedBy>
  <dcterms:modified xsi:type="dcterms:W3CDTF">2005-05-31T21:36:16Z</dcterms:modified>
  <cp:revision>152</cp:revision>
  <dc:subject/>
  <dc:title>Presentación de PowerPoint</dc:title>
</cp:coreProperties>
</file>