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313F-F384-4B7F-B47C-066686E36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7720-E92B-4ACE-B06D-5E0BA691D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8277-6C09-4374-9C61-F710237F3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CBC0-F760-45DE-867A-EB91EF69D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D3E6B-EB00-406F-AFCE-DC9A193E5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897CE-A6EE-4A77-906D-6C878E9EF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20C8F-D2FF-4292-BDA2-6CB843324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64BD2-BEB7-44DD-88BD-AC42BC0C5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45568-1DAA-4C47-9877-3FA38657A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DD972-CE4E-47CF-86DE-4A2DFB4E0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7E3C0-1832-477C-9558-D55976F51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EC96-BC93-48E2-8F00-A271FF4AB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915AA-2743-440F-ADBF-84FC3E5D4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1368E-DE96-4643-852B-73BF08AEC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17FBB-324F-4C22-86E9-910A3977A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B3060-C735-41EC-A117-38E07A424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8E853-8E51-483C-802A-BC250C1D5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9159-2554-41E3-93EB-6F4F99698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BB1A-DF5F-4DC6-8CCF-375984561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CDB4-21A0-4473-A385-9DE5FD578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DFAF-4066-4463-9983-1C26911F4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3097-D56A-4852-9C7E-56B111AB7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0708-2599-4B20-A8E0-EA310B1EC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51DC-0BD4-4BC8-8B0A-BFDEC8400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71CBE-80DB-4169-9797-708C0C29BA4A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CF185-CE29-4AFF-9B66-7CA7A71F7FD4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bd189"/>
                </a:solidFill>
                <a:latin typeface="Arial"/>
              </a:rPr>
              <a:t>INTRODUCCIÓN AL SISTEMA PRODUCTIVO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La función de producció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La productivida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Las decisiones de producció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313320" y="5981760"/>
            <a:ext cx="238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b97c01"/>
                </a:solidFill>
                <a:latin typeface="Arial Narrow"/>
              </a:rPr>
              <a:t>Paz Jiménez Sainz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b97c01"/>
                </a:solidFill>
                <a:latin typeface="Arial Narrow"/>
              </a:rPr>
              <a:t>Curso 01-02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bd189"/>
                </a:solidFill>
                <a:latin typeface="Arial"/>
              </a:rPr>
              <a:t>La problemática de los servicio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9900"/>
                </a:solidFill>
                <a:latin typeface="Arial"/>
              </a:rPr>
              <a:t>Inventario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No son almacenables con lo que las decisiones de capacidad son especialmente relevant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9900"/>
                </a:solidFill>
                <a:latin typeface="Arial"/>
              </a:rPr>
              <a:t>Fabricación/ Marketing +ligada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Se consumen donde se produce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02884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9900"/>
                </a:solidFill>
                <a:latin typeface="Arial"/>
              </a:rPr>
              <a:t>Calidad</a:t>
            </a:r>
            <a:r>
              <a:rPr b="0" lang="es-ES_tradnl" sz="2800" spc="-1" strike="noStrike">
                <a:solidFill>
                  <a:srgbClr val="009900"/>
                </a:solidFill>
                <a:latin typeface="Arial"/>
              </a:rPr>
              <a:t>: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No es fácilmente apreciable antes de la compra, con lo que la reputación del producto es especialmente importante (marca, publicidad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bd189"/>
                </a:solidFill>
                <a:latin typeface="Arial"/>
              </a:rPr>
              <a:t>LA PRODUCTIVIDAD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9720" y="5913360"/>
            <a:ext cx="885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 Narrow"/>
              </a:rPr>
              <a:t>La productividad pone en relación lo que obtengo con lo que pong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 Narrow"/>
              </a:rPr>
              <a:t>Algo es más productivo en cuanto que esa relación es mayor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1219320" y="1219320"/>
            <a:ext cx="6583320" cy="3695400"/>
            <a:chOff x="1219320" y="1219320"/>
            <a:chExt cx="6583320" cy="3695400"/>
          </a:xfrm>
        </p:grpSpPr>
        <p:pic>
          <p:nvPicPr>
            <p:cNvPr id="214" name="" descr=""/>
            <p:cNvPicPr/>
            <p:nvPr/>
          </p:nvPicPr>
          <p:blipFill>
            <a:blip r:embed="rId1"/>
            <a:stretch/>
          </p:blipFill>
          <p:spPr>
            <a:xfrm>
              <a:off x="3505320" y="1219320"/>
              <a:ext cx="2968560" cy="300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" name="" descr=""/>
            <p:cNvPicPr/>
            <p:nvPr/>
          </p:nvPicPr>
          <p:blipFill>
            <a:blip r:embed="rId2"/>
            <a:stretch/>
          </p:blipFill>
          <p:spPr>
            <a:xfrm>
              <a:off x="6248520" y="2324160"/>
              <a:ext cx="1554120" cy="140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" name="MONEDAS" descr=""/>
            <p:cNvPicPr/>
            <p:nvPr/>
          </p:nvPicPr>
          <p:blipFill>
            <a:blip r:embed="rId3"/>
            <a:stretch/>
          </p:blipFill>
          <p:spPr>
            <a:xfrm>
              <a:off x="1219320" y="3085920"/>
              <a:ext cx="1447560" cy="138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1219320" y="1714320"/>
              <a:ext cx="2819160" cy="838440"/>
            </a:xfrm>
            <a:custGeom>
              <a:avLst/>
              <a:gdLst>
                <a:gd name="textAreaLeft" fmla="*/ 493200 w 2819160"/>
                <a:gd name="textAreaRight" fmla="*/ 2044080 w 2819160"/>
                <a:gd name="textAreaTop" fmla="*/ 112320 h 838440"/>
                <a:gd name="textAreaBottom" fmla="*/ 726120 h 83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ebd18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876920" y="4228920"/>
              <a:ext cx="2819160" cy="685800"/>
            </a:xfrm>
            <a:custGeom>
              <a:avLst/>
              <a:gdLst>
                <a:gd name="textAreaLeft" fmla="*/ 493200 w 2819160"/>
                <a:gd name="textAreaRight" fmla="*/ 2044080 w 2819160"/>
                <a:gd name="textAreaTop" fmla="*/ 91800 h 685800"/>
                <a:gd name="textAreaBottom" fmla="*/ 59400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ebd18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1149840" y="4952880"/>
            <a:ext cx="263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 Narrow"/>
              </a:rPr>
              <a:t>Recursos consumido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951880" y="5029200"/>
            <a:ext cx="277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 Narrow"/>
              </a:rPr>
              <a:t>Productos conseguido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bd189"/>
                </a:solidFill>
                <a:latin typeface="Arial"/>
              </a:rPr>
              <a:t>LA PRODUCTIVIDAD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06668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9900"/>
                </a:solidFill>
                <a:latin typeface="Arial"/>
              </a:rPr>
              <a:t>Concepto</a:t>
            </a: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: es una relación entre medios y resultado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260640" indent="-260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9900"/>
                </a:solidFill>
                <a:latin typeface="Arial"/>
              </a:rPr>
              <a:t>Objetivo</a:t>
            </a: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: aumentarl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260640" indent="-260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9900"/>
                </a:solidFill>
                <a:latin typeface="Arial"/>
              </a:rPr>
              <a:t>Medidas</a:t>
            </a: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: hay diferentes índices o indicadores de este concepto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564480" indent="-217080">
              <a:lnSpc>
                <a:spcPct val="11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Productividad total :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868680" indent="-173520">
              <a:lnSpc>
                <a:spcPct val="11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"/>
              </a:rPr>
              <a:t>Bienes y servicios valorados en u.m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868680" indent="-173520">
              <a:lnSpc>
                <a:spcPct val="11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"/>
              </a:rPr>
              <a:t>Inputs utilizados valorados en u.m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564480" indent="-217080">
              <a:lnSpc>
                <a:spcPct val="11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Productividad parcial: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868680" indent="-173520">
              <a:lnSpc>
                <a:spcPct val="11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"/>
              </a:rPr>
              <a:t>Bienes y servicios valorados en u.m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868680" indent="-173520">
              <a:lnSpc>
                <a:spcPct val="11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"/>
              </a:rPr>
              <a:t>Un factor o input específico valorado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523880" y="4800600"/>
            <a:ext cx="64771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371600" y="6248520"/>
            <a:ext cx="66294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089200" y="4267080"/>
            <a:ext cx="105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 Narrow"/>
              </a:rPr>
              <a:t>X 100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089200" y="5867280"/>
            <a:ext cx="105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 Narrow"/>
              </a:rPr>
              <a:t>X 100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bd189"/>
                </a:solidFill>
                <a:latin typeface="Arial"/>
              </a:rPr>
              <a:t>LA PRODUCTIVIDAD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-28296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También se consideran medidas de productividad: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"/>
              </a:rPr>
              <a:t>Beneficios generados por homb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"/>
              </a:rPr>
              <a:t>Output generado por homb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¿Qué diferencia hay con los indicadores que se acaban de ver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En este tipo de indicador numerador y denominador no vienen expresados en unidades de medida homogénea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bd189"/>
                </a:solidFill>
                <a:latin typeface="Arial"/>
              </a:rPr>
              <a:t>Significado de la productividad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040" y="1218960"/>
            <a:ext cx="7924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Lo significativo es comparar medidas de productividad de la empresa a lo largo del tiempo, o con respecto a sus competidore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653760" indent="-25128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En el 1er caso habrá que tener en cuenta el efecto de la inflació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005840" indent="-2008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aeaea"/>
                </a:solidFill>
                <a:latin typeface="Arial"/>
              </a:rPr>
              <a:t>¿Cómo se descuenta el efecto de la inflación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005840" indent="-2008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aeaea"/>
                </a:solidFill>
                <a:latin typeface="Arial"/>
              </a:rPr>
              <a:t>Deflactando, dividiendo entre (1+</a:t>
            </a:r>
            <a:r>
              <a:rPr b="1" lang="es-ES_tradnl" sz="2400" spc="-1" strike="noStrike">
                <a:solidFill>
                  <a:srgbClr val="eaeaea"/>
                </a:solidFill>
                <a:latin typeface="Symbol"/>
                <a:ea typeface="Symbol"/>
              </a:rPr>
              <a:t></a:t>
            </a:r>
            <a:r>
              <a:rPr b="1" lang="es-ES_tradnl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407960" indent="-200880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eaeaea"/>
                </a:solidFill>
                <a:latin typeface="Arial"/>
              </a:rPr>
              <a:t>Siendo </a:t>
            </a:r>
            <a:r>
              <a:rPr b="1" lang="es-ES_tradnl" sz="2000" spc="-1" strike="noStrike">
                <a:solidFill>
                  <a:srgbClr val="eaeaea"/>
                </a:solidFill>
                <a:latin typeface="Symbol"/>
                <a:ea typeface="Symbol"/>
              </a:rPr>
              <a:t></a:t>
            </a:r>
            <a:r>
              <a:rPr b="1" lang="es-ES_tradnl" sz="2000" spc="-1" strike="noStrike">
                <a:solidFill>
                  <a:srgbClr val="eaeaea"/>
                </a:solidFill>
                <a:latin typeface="Arial"/>
              </a:rPr>
              <a:t> la tasa de inflación del periodo anterior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Para una comparativa directa se suele reducir la tabla de productividades a base 100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3" marL="140796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bd189"/>
                </a:solidFill>
                <a:latin typeface="Arial"/>
              </a:rPr>
              <a:t>Factores que inciden en la productividad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Fuerza de trabajo: capacitación, remuneraciones, conflictividad, absentismo, organizació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Proceso: automatización, maquinari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Capacidad: ajuste a demanda efectiv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Inventario: costes de aprovisionamiento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Ventas: producto, calidad e I+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Factores externos: marcha economía, gustos, competencia, regulación del gobierno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bd189"/>
                </a:solidFill>
                <a:latin typeface="Arial"/>
              </a:rPr>
              <a:t>Interpretación de las variaciones de Productividad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Supongamos que la variación es positiva: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ha aumentado el numerador 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ha aumentado la cantidad vendida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o ha aumentado el precio de vent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o ha disminuido el denominador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ha disminuido el precio de compra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o ha disminuido la cantidad utilizada debido a un mejor rendimiento del inpu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bd189"/>
                </a:solidFill>
                <a:latin typeface="Arial"/>
              </a:rPr>
              <a:t>La función de producción u operaciones en la empresa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447920"/>
            <a:ext cx="6095880" cy="5105160"/>
          </a:xfrm>
          <a:prstGeom prst="ellipse">
            <a:avLst/>
          </a:prstGeom>
          <a:solidFill>
            <a:srgbClr val="fcab40"/>
          </a:solidFill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029200" y="5410080"/>
            <a:ext cx="1981080" cy="990720"/>
          </a:xfrm>
          <a:custGeom>
            <a:avLst/>
            <a:gdLst>
              <a:gd name="textAreaLeft" fmla="*/ 0 w 1981080"/>
              <a:gd name="textAreaRight" fmla="*/ 1981440 w 198108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97c01"/>
          </a:solidFill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029200" y="5510160"/>
            <a:ext cx="189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aeaea"/>
                </a:solidFill>
                <a:latin typeface="Arial Narrow"/>
              </a:rPr>
              <a:t>Subsistema Rea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" y="1752480"/>
            <a:ext cx="5638680" cy="2057400"/>
          </a:xfrm>
          <a:prstGeom prst="flowChartExtract">
            <a:avLst/>
          </a:prstGeom>
          <a:solidFill>
            <a:srgbClr val="3366ff"/>
          </a:solidFill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72520" y="4268880"/>
            <a:ext cx="2444040" cy="459720"/>
          </a:xfrm>
          <a:prstGeom prst="rect">
            <a:avLst/>
          </a:prstGeom>
          <a:solidFill>
            <a:srgbClr val="b97c01"/>
          </a:solidFill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aeaea"/>
                </a:solidFill>
                <a:latin typeface="Arial Narrow"/>
              </a:rPr>
              <a:t>Aprovisionamient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743200" y="4268880"/>
            <a:ext cx="1623960" cy="459720"/>
          </a:xfrm>
          <a:prstGeom prst="rect">
            <a:avLst/>
          </a:prstGeom>
          <a:solidFill>
            <a:srgbClr val="b97c01"/>
          </a:solidFill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0000"/>
                </a:solidFill>
                <a:latin typeface="Arial Narrow"/>
              </a:rPr>
              <a:t>Producció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361040" y="4268880"/>
            <a:ext cx="1506240" cy="459720"/>
          </a:xfrm>
          <a:prstGeom prst="rect">
            <a:avLst/>
          </a:prstGeom>
          <a:solidFill>
            <a:srgbClr val="b97c01"/>
          </a:solidFill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aeaea"/>
                </a:solidFill>
                <a:latin typeface="Arial Narrow"/>
              </a:rPr>
              <a:t>Marketing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63520" y="3816360"/>
            <a:ext cx="5562720" cy="459720"/>
          </a:xfrm>
          <a:prstGeom prst="rect">
            <a:avLst/>
          </a:prstGeom>
          <a:solidFill>
            <a:srgbClr val="993366"/>
          </a:solidFill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aeaea"/>
                </a:solidFill>
                <a:latin typeface="Arial Narrow"/>
              </a:rPr>
              <a:t>Finanza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135880" y="2409840"/>
            <a:ext cx="200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aeaea"/>
                </a:solidFill>
                <a:latin typeface="Arial Narrow"/>
              </a:rPr>
              <a:t>Administració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450800" y="2738520"/>
            <a:ext cx="314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aeaea"/>
                </a:solidFill>
                <a:latin typeface="Arial Narrow"/>
              </a:rPr>
              <a:t>Sistemas de Informació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32040" y="3124080"/>
            <a:ext cx="44719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aeaea"/>
                </a:solidFill>
                <a:latin typeface="Arial Narrow"/>
              </a:rPr>
              <a:t>Dº de RRHH /Organizació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aeaea"/>
                </a:solidFill>
                <a:latin typeface="Arial Narrow"/>
              </a:rPr>
              <a:t>Planificación/Contro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19920" y="2044800"/>
            <a:ext cx="2236680" cy="1143000"/>
          </a:xfrm>
          <a:prstGeom prst="triangle">
            <a:avLst>
              <a:gd name="adj" fmla="val 50000"/>
            </a:avLst>
          </a:prstGeom>
          <a:solidFill>
            <a:srgbClr val="3366ff"/>
          </a:solidFill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36232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aeaea"/>
                </a:solidFill>
                <a:latin typeface="Arial Narrow"/>
              </a:rPr>
              <a:t>Subsistema directiv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010280" y="3352680"/>
            <a:ext cx="0" cy="3124440"/>
          </a:xfrm>
          <a:prstGeom prst="line">
            <a:avLst/>
          </a:prstGeom>
          <a:ln w="12600">
            <a:solidFill>
              <a:srgbClr val="eaeae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46200" y="5257800"/>
            <a:ext cx="272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663300"/>
                </a:solidFill>
                <a:latin typeface="Times New Roman"/>
              </a:rPr>
              <a:t>ENTORNO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rot="10800000">
            <a:off x="7162560" y="4038480"/>
            <a:ext cx="1981080" cy="990720"/>
          </a:xfrm>
          <a:custGeom>
            <a:avLst/>
            <a:gdLst>
              <a:gd name="textAreaLeft" fmla="*/ 0 w 1981080"/>
              <a:gd name="textAreaRight" fmla="*/ 1981440 w 198108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97c01"/>
          </a:solidFill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546680" y="4191120"/>
            <a:ext cx="1582920" cy="8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aeaea"/>
                </a:solidFill>
                <a:latin typeface="Arial Narrow"/>
              </a:rPr>
              <a:t>Subsistem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aeaea"/>
                </a:solidFill>
                <a:latin typeface="Arial Narrow"/>
              </a:rPr>
              <a:t>Financier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743200" y="4191120"/>
            <a:ext cx="1523880" cy="685800"/>
          </a:xfrm>
          <a:prstGeom prst="ellipse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bd189"/>
                </a:solidFill>
                <a:latin typeface="Arial"/>
              </a:rPr>
              <a:t>La función de producció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932840" y="2743200"/>
            <a:ext cx="1779480" cy="3240720"/>
          </a:xfrm>
          <a:prstGeom prst="rect">
            <a:avLst/>
          </a:prstGeom>
          <a:solidFill>
            <a:srgbClr val="b97c01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 Narrow"/>
              </a:rPr>
              <a:t>Inputs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 Narrow"/>
              </a:rPr>
              <a:t>Material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 Narrow"/>
              </a:rPr>
              <a:t>Energí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 Narrow"/>
              </a:rPr>
              <a:t>Tecnologí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 Narrow"/>
              </a:rPr>
              <a:t>Maquinari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 Narrow"/>
              </a:rPr>
              <a:t>Mano de Obr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99800" y="3048120"/>
            <a:ext cx="1416600" cy="1572120"/>
          </a:xfrm>
          <a:prstGeom prst="rect">
            <a:avLst/>
          </a:prstGeom>
          <a:solidFill>
            <a:srgbClr val="b97c01"/>
          </a:solidFill>
          <a:ln w="9360">
            <a:solidFill>
              <a:srgbClr val="f0ef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 Narrow"/>
              </a:rPr>
              <a:t>Outputs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 Narrow"/>
              </a:rPr>
              <a:t>Producto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 Narrow"/>
              </a:rPr>
              <a:t>terminado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27640" y="1981080"/>
            <a:ext cx="1055520" cy="459720"/>
          </a:xfrm>
          <a:prstGeom prst="rect">
            <a:avLst/>
          </a:prstGeom>
          <a:solidFill>
            <a:srgbClr val="b97c01"/>
          </a:solidFill>
          <a:ln w="9360">
            <a:solidFill>
              <a:srgbClr val="f0ef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 Narrow"/>
              </a:rPr>
              <a:t>Entorn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351680" y="3124080"/>
            <a:ext cx="1834200" cy="1015920"/>
          </a:xfrm>
          <a:prstGeom prst="rect">
            <a:avLst/>
          </a:prstGeom>
          <a:solidFill>
            <a:srgbClr val="b97c01"/>
          </a:solidFill>
          <a:ln w="9360">
            <a:solidFill>
              <a:srgbClr val="f0ef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 Narrow"/>
              </a:rPr>
              <a:t>Proceso de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 Narrow"/>
              </a:rPr>
              <a:t>transformació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354560" y="6095880"/>
            <a:ext cx="2192400" cy="459720"/>
          </a:xfrm>
          <a:prstGeom prst="rect">
            <a:avLst/>
          </a:prstGeom>
          <a:solidFill>
            <a:srgbClr val="b97c01"/>
          </a:solidFill>
          <a:ln w="9360">
            <a:solidFill>
              <a:srgbClr val="f0ef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 Narrow"/>
              </a:rPr>
              <a:t>Retroalimentació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2819160" y="2209680"/>
            <a:ext cx="1600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819520" y="2209680"/>
            <a:ext cx="0" cy="5335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733920" y="3733920"/>
            <a:ext cx="60948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172200" y="3733920"/>
            <a:ext cx="121932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153280" y="4572000"/>
            <a:ext cx="0" cy="17524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6552720" y="6324480"/>
            <a:ext cx="160020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2742840" y="6324480"/>
            <a:ext cx="1600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2743200" y="5943600"/>
            <a:ext cx="0" cy="3808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8077320" y="2190240"/>
            <a:ext cx="0" cy="8384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5486040" y="2190600"/>
            <a:ext cx="259092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5257800" y="4114440"/>
            <a:ext cx="0" cy="19810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s-ES_tradnl" sz="4400" spc="-1" strike="noStrike">
                <a:solidFill>
                  <a:srgbClr val="ebd189"/>
                </a:solidFill>
                <a:latin typeface="Arial"/>
              </a:rPr>
              <a:t>El proceso productivo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9900"/>
                </a:solidFill>
                <a:latin typeface="Arial"/>
              </a:rPr>
              <a:t>Proceso</a:t>
            </a:r>
            <a:r>
              <a:rPr b="0" lang="es-ES" sz="2800" spc="-1" strike="noStrike">
                <a:solidFill>
                  <a:srgbClr val="009900"/>
                </a:solidFill>
                <a:latin typeface="Symbol"/>
                <a:ea typeface="Symbol"/>
              </a:rPr>
              <a:t></a:t>
            </a:r>
            <a:r>
              <a:rPr b="0" lang="es-ES" sz="2800" spc="-1" strike="noStrike">
                <a:solidFill>
                  <a:srgbClr val="009900"/>
                </a:solidFill>
                <a:latin typeface="Arial"/>
              </a:rPr>
              <a:t> productivo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 = Técnica = actividad: todas las situaciones productivas en las que se mantienen constante la proporción entre los factores empleado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9900"/>
                </a:solidFill>
                <a:latin typeface="Arial"/>
              </a:rPr>
              <a:t>Tecnología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: síntesix de técnicas conocidas eficientes.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 Combinación específica de factores productivos (orden, técnicas, rutinas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9900"/>
                </a:solidFill>
                <a:latin typeface="Symbol"/>
                <a:ea typeface="Symbol"/>
              </a:rPr>
              <a:t>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ebd189"/>
                </a:solidFill>
                <a:latin typeface="Arial"/>
              </a:rPr>
              <a:t>Proceso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: toda secuencia de actividades con una/s entrada/s y una/s salida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bd189"/>
                </a:solidFill>
                <a:latin typeface="Arial"/>
              </a:rPr>
              <a:t>El proceso de transformació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286640" y="1676520"/>
            <a:ext cx="6644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eaeaea"/>
                </a:solidFill>
                <a:latin typeface="Arial Narrow"/>
              </a:rPr>
              <a:t>Producción: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9900"/>
                </a:solidFill>
                <a:latin typeface="Arial Narrow"/>
              </a:rPr>
              <a:t>Transformación</a:t>
            </a:r>
            <a:r>
              <a:rPr b="1" lang="es-ES_tradnl" sz="3200" spc="-1" strike="noStrike">
                <a:solidFill>
                  <a:srgbClr val="eaeaea"/>
                </a:solidFill>
                <a:latin typeface="Arial Narrow"/>
              </a:rPr>
              <a:t> de unos bienes en otro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90720" y="41148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eaeaea"/>
                </a:solidFill>
                <a:latin typeface="Arial Narrow"/>
              </a:rPr>
              <a:t>Tempora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733560" y="3351240"/>
            <a:ext cx="198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eaeaea"/>
                </a:solidFill>
                <a:latin typeface="Arial Narrow"/>
              </a:rPr>
              <a:t>Informativ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971800" y="4038480"/>
            <a:ext cx="3048120" cy="1600200"/>
          </a:xfrm>
          <a:custGeom>
            <a:avLst/>
            <a:gdLst>
              <a:gd name="textAreaLeft" fmla="*/ 0 w 3048120"/>
              <a:gd name="textAreaRight" fmla="*/ 3048480 w 304812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504960" y="5715000"/>
            <a:ext cx="187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eaeaea"/>
                </a:solidFill>
                <a:latin typeface="Arial Narrow"/>
              </a:rPr>
              <a:t>Cualitativ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476760" y="4191120"/>
            <a:ext cx="19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eaeaea"/>
                </a:solidFill>
                <a:latin typeface="Arial Narrow"/>
              </a:rPr>
              <a:t>De espacio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505680" y="4572000"/>
            <a:ext cx="230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00"/>
                </a:solidFill>
                <a:latin typeface="Arial Narrow"/>
              </a:rPr>
              <a:t>transformació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bd189"/>
                </a:solidFill>
                <a:latin typeface="Arial"/>
              </a:rPr>
              <a:t>La generación de Valor Añadido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381320" y="2743200"/>
            <a:ext cx="1415160" cy="2128320"/>
          </a:xfrm>
          <a:prstGeom prst="rect">
            <a:avLst/>
          </a:prstGeom>
          <a:solidFill>
            <a:srgbClr val="b97c01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 Narrow"/>
              </a:rPr>
              <a:t>Material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 Narrow"/>
              </a:rPr>
              <a:t>Energí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 Narrow"/>
              </a:rPr>
              <a:t>Tecnologí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 Narrow"/>
              </a:rPr>
              <a:t>Maquinari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475760" y="3048120"/>
            <a:ext cx="1416600" cy="1572120"/>
          </a:xfrm>
          <a:prstGeom prst="rect">
            <a:avLst/>
          </a:prstGeom>
          <a:solidFill>
            <a:srgbClr val="b97c01"/>
          </a:solidFill>
          <a:ln w="9360">
            <a:solidFill>
              <a:srgbClr val="f0ef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 Narrow"/>
              </a:rPr>
              <a:t>Outputs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 Narrow"/>
              </a:rPr>
              <a:t>Producto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 Narrow"/>
              </a:rPr>
              <a:t>terminado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198680" y="1981080"/>
            <a:ext cx="1153080" cy="459720"/>
          </a:xfrm>
          <a:prstGeom prst="rect">
            <a:avLst/>
          </a:prstGeom>
          <a:solidFill>
            <a:srgbClr val="b97c01"/>
          </a:solidFill>
          <a:ln w="9360">
            <a:solidFill>
              <a:srgbClr val="f0ef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 Narrow"/>
              </a:rPr>
              <a:t>Mercad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046760" y="3124080"/>
            <a:ext cx="1834200" cy="1015920"/>
          </a:xfrm>
          <a:prstGeom prst="rect">
            <a:avLst/>
          </a:prstGeom>
          <a:solidFill>
            <a:srgbClr val="b97c01"/>
          </a:solidFill>
          <a:ln w="9360">
            <a:solidFill>
              <a:srgbClr val="f0ef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 Narrow"/>
              </a:rPr>
              <a:t>Proceso de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 Narrow"/>
              </a:rPr>
              <a:t>transformació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380240" y="6019920"/>
            <a:ext cx="1387800" cy="459720"/>
          </a:xfrm>
          <a:prstGeom prst="rect">
            <a:avLst/>
          </a:prstGeom>
          <a:solidFill>
            <a:srgbClr val="b97c01"/>
          </a:solidFill>
          <a:ln w="9360">
            <a:solidFill>
              <a:srgbClr val="f0ef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 Narrow"/>
              </a:rPr>
              <a:t>Propietari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2057040" y="2133720"/>
            <a:ext cx="21337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057400" y="2133720"/>
            <a:ext cx="0" cy="5331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8077320" y="2190240"/>
            <a:ext cx="0" cy="8384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5486040" y="2190600"/>
            <a:ext cx="259092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362320" y="2362320"/>
            <a:ext cx="0" cy="380880"/>
          </a:xfrm>
          <a:prstGeom prst="line">
            <a:avLst/>
          </a:prstGeom>
          <a:ln w="9360">
            <a:solidFill>
              <a:srgbClr val="eaeae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362320" y="2362320"/>
            <a:ext cx="1904760" cy="0"/>
          </a:xfrm>
          <a:prstGeom prst="line">
            <a:avLst/>
          </a:prstGeom>
          <a:ln w="9360">
            <a:solidFill>
              <a:srgbClr val="eaeaea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86400" y="2343240"/>
            <a:ext cx="2438280" cy="0"/>
          </a:xfrm>
          <a:prstGeom prst="line">
            <a:avLst/>
          </a:prstGeom>
          <a:ln w="9360">
            <a:solidFill>
              <a:srgbClr val="eaeae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867800" y="2362320"/>
            <a:ext cx="0" cy="685800"/>
          </a:xfrm>
          <a:prstGeom prst="line">
            <a:avLst/>
          </a:prstGeom>
          <a:ln w="9360">
            <a:solidFill>
              <a:srgbClr val="eaeaea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5867280" y="3962520"/>
            <a:ext cx="1524240" cy="0"/>
          </a:xfrm>
          <a:prstGeom prst="line">
            <a:avLst/>
          </a:prstGeom>
          <a:ln w="9360">
            <a:solidFill>
              <a:srgbClr val="eaeaea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2819520" y="3962520"/>
            <a:ext cx="1218960" cy="19080"/>
          </a:xfrm>
          <a:prstGeom prst="line">
            <a:avLst/>
          </a:prstGeom>
          <a:ln w="9360">
            <a:solidFill>
              <a:srgbClr val="eaeaea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303920" y="5257800"/>
            <a:ext cx="1779480" cy="459720"/>
          </a:xfrm>
          <a:prstGeom prst="rect">
            <a:avLst/>
          </a:prstGeom>
          <a:solidFill>
            <a:srgbClr val="b97c01"/>
          </a:solidFill>
          <a:ln w="9360">
            <a:solidFill>
              <a:srgbClr val="f0ef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 Narrow"/>
              </a:rPr>
              <a:t>Mano de Obr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029200" y="4114800"/>
            <a:ext cx="0" cy="990720"/>
          </a:xfrm>
          <a:prstGeom prst="line">
            <a:avLst/>
          </a:prstGeom>
          <a:ln w="9360">
            <a:solidFill>
              <a:srgbClr val="eaeaea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490280" y="5199120"/>
            <a:ext cx="1747440" cy="459720"/>
          </a:xfrm>
          <a:prstGeom prst="rect">
            <a:avLst/>
          </a:prstGeom>
          <a:solidFill>
            <a:srgbClr val="555bad"/>
          </a:solidFill>
          <a:ln w="9360">
            <a:solidFill>
              <a:srgbClr val="f0ef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 Narrow"/>
              </a:rPr>
              <a:t>Valor Añadid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029200" y="5715000"/>
            <a:ext cx="0" cy="609480"/>
          </a:xfrm>
          <a:prstGeom prst="line">
            <a:avLst/>
          </a:prstGeom>
          <a:ln w="9360">
            <a:solidFill>
              <a:srgbClr val="eaeae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rot="21568800">
            <a:off x="3280680" y="4724280"/>
            <a:ext cx="10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 Narrow"/>
              </a:rPr>
              <a:t>Sueldo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188320" y="5715000"/>
            <a:ext cx="19562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 Narrow"/>
              </a:rPr>
              <a:t>Renta Residual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 Narrow"/>
              </a:rPr>
              <a:t>Beneficio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748960" y="2362320"/>
            <a:ext cx="20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 Narrow"/>
              </a:rPr>
              <a:t>Precios de input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568120" y="2438280"/>
            <a:ext cx="230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 Narrow"/>
              </a:rPr>
              <a:t>Precios de Output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2743200" y="6324480"/>
            <a:ext cx="2286000" cy="0"/>
          </a:xfrm>
          <a:prstGeom prst="line">
            <a:avLst/>
          </a:prstGeom>
          <a:ln w="9360">
            <a:solidFill>
              <a:srgbClr val="eaeaea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720040" y="4038480"/>
            <a:ext cx="187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 Narrow"/>
              </a:rPr>
              <a:t>Remuneración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 Narrow"/>
              </a:rPr>
              <a:t>facto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 txBox="1"/>
          <p:nvPr/>
        </p:nvSpPr>
        <p:spPr>
          <a:xfrm rot="5400000">
            <a:off x="-967320" y="4243320"/>
            <a:ext cx="4038840" cy="4287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cab40"/>
                </a:solidFill>
                <a:latin typeface="Arial Black"/>
              </a:rPr>
              <a:t>Factores Productivo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cab40"/>
              </a:solidFill>
              <a:latin typeface="Arial Black"/>
              <a:ea typeface="Arial Black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3124080" y="5372280"/>
            <a:ext cx="1371600" cy="0"/>
          </a:xfrm>
          <a:prstGeom prst="line">
            <a:avLst/>
          </a:prstGeom>
          <a:ln w="9360">
            <a:solidFill>
              <a:srgbClr val="eaeaea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19520" y="3733920"/>
            <a:ext cx="121896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867280" y="3733920"/>
            <a:ext cx="152424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1981080" y="4876920"/>
            <a:ext cx="0" cy="3808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825280" y="4114800"/>
            <a:ext cx="20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 Narrow"/>
              </a:rPr>
              <a:t>Precios de input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bd189"/>
                </a:solidFill>
                <a:latin typeface="Arial"/>
              </a:rPr>
              <a:t>Las clases de producto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Criterio: tangible o intangibl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600200" y="4191120"/>
            <a:ext cx="6324480" cy="0"/>
          </a:xfrm>
          <a:prstGeom prst="line">
            <a:avLst/>
          </a:prstGeom>
          <a:ln w="4428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220040" y="4267080"/>
            <a:ext cx="120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Arial Narrow"/>
              </a:rPr>
              <a:t>Bien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629400" y="4343400"/>
            <a:ext cx="153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Arial Narrow"/>
              </a:rPr>
              <a:t>Servicio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340800" y="597996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ecff"/>
                </a:solidFill>
                <a:latin typeface="Arial Narrow"/>
              </a:rPr>
              <a:t>mobiliari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484160" y="4836960"/>
            <a:ext cx="126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ecff"/>
                </a:solidFill>
                <a:latin typeface="Arial Narrow"/>
              </a:rPr>
              <a:t>Servicios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ecff"/>
                </a:solidFill>
                <a:latin typeface="Arial Narrow"/>
              </a:rPr>
              <a:t>bancario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939720" y="5715000"/>
            <a:ext cx="14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ecff"/>
                </a:solidFill>
                <a:latin typeface="Arial Narrow"/>
              </a:rPr>
              <a:t>enseñanz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038040" y="4836960"/>
            <a:ext cx="130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ecff"/>
                </a:solidFill>
                <a:latin typeface="Arial Narrow"/>
              </a:rPr>
              <a:t>publicida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044880" y="2568600"/>
            <a:ext cx="3713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Arial Narrow"/>
              </a:rPr>
              <a:t>Paquetes de productos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0" lang="es-ES_tradnl" sz="3200" spc="-1" strike="noStrike">
                <a:solidFill>
                  <a:srgbClr val="ffff00"/>
                </a:solidFill>
                <a:latin typeface="Arial Narrow"/>
              </a:rPr>
              <a:t>parte har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0" lang="es-ES_tradnl" sz="3200" spc="-1" strike="noStrike">
                <a:solidFill>
                  <a:srgbClr val="ffff00"/>
                </a:solidFill>
                <a:latin typeface="Arial Narrow"/>
              </a:rPr>
              <a:t>parte sof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06720" y="5715000"/>
            <a:ext cx="177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ecff"/>
                </a:solidFill>
                <a:latin typeface="Arial Narrow"/>
              </a:rPr>
              <a:t>Concesionari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ecff"/>
                </a:solidFill>
                <a:latin typeface="Arial Narrow"/>
              </a:rPr>
              <a:t>automóvil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436040" y="5599080"/>
            <a:ext cx="140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ecff"/>
                </a:solidFill>
                <a:latin typeface="Arial Narrow"/>
              </a:rPr>
              <a:t>consultorí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624440" y="3200400"/>
            <a:ext cx="119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ecff"/>
                </a:solidFill>
                <a:latin typeface="Arial Narrow"/>
              </a:rPr>
              <a:t>techado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969920" y="3465360"/>
            <a:ext cx="15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ecff"/>
                </a:solidFill>
                <a:latin typeface="Arial Narrow"/>
              </a:rPr>
              <a:t>construcció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85440" y="4989600"/>
            <a:ext cx="17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 Narrow"/>
              </a:rPr>
              <a:t>Líneas aérea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90200" y="2666880"/>
            <a:ext cx="81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 Narrow"/>
              </a:rPr>
              <a:t>viaj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587600" y="605628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 Narrow"/>
              </a:rPr>
              <a:t>hot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978120" y="2932200"/>
            <a:ext cx="144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 Narrow"/>
              </a:rPr>
              <a:t>restaurant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54440" y="4989600"/>
            <a:ext cx="141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 Narrow"/>
              </a:rPr>
              <a:t>mensajerí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084720" y="3465360"/>
            <a:ext cx="14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 Narrow"/>
              </a:rPr>
              <a:t>decoració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bd189"/>
                </a:solidFill>
                <a:latin typeface="Arial"/>
              </a:rPr>
              <a:t>La Dirección de operacione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600200" y="1752480"/>
            <a:ext cx="6858000" cy="506412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1143000" y="1676520"/>
            <a:ext cx="670572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cc0000"/>
                </a:solidFill>
                <a:latin typeface="Arial Narrow"/>
              </a:rPr>
              <a:t>Administración de recursos directos necesarios para producir productos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cc0000"/>
                </a:solidFill>
                <a:latin typeface="Arial Narrow"/>
              </a:rPr>
              <a:t>Administración del Sistema Productivo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bd189"/>
                </a:solidFill>
                <a:latin typeface="Arial"/>
              </a:rPr>
              <a:t>Las decisiones de Producció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Proceso: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"/>
              </a:rPr>
              <a:t>equipo (maquinaria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"/>
              </a:rPr>
              <a:t>tecnologí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"/>
              </a:rPr>
              <a:t>flujo de proceso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"/>
              </a:rPr>
              <a:t>distribución en plant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"/>
              </a:rPr>
              <a:t>instalacion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67480" indent="-2674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Capacidad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579240" indent="-222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"/>
              </a:rPr>
              <a:t>cantidad por periodo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67480" indent="-2674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Inventario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"/>
              </a:rPr>
              <a:t>¿Qué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"/>
              </a:rPr>
              <a:t>¿Cuanto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"/>
              </a:rPr>
              <a:t>¿Cuando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2884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Fuerza de trabajo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616680" indent="-2372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"/>
              </a:rPr>
              <a:t>contratación/despido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16680" indent="-2372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"/>
              </a:rPr>
              <a:t>capacitació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16680" indent="-2372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"/>
              </a:rPr>
              <a:t>supervisió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16680" indent="-2372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"/>
              </a:rPr>
              <a:t>compensació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84400" indent="-28440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Calidad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616680" indent="-2372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"/>
              </a:rPr>
              <a:t>establecimiento estándar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16680" indent="-2372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"/>
              </a:rPr>
              <a:t>diseño de equipo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16680" indent="-2372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"/>
              </a:rPr>
              <a:t>capacitación RRHH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16680" indent="-2372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"/>
              </a:rPr>
              <a:t>inspección producto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02T14:30:33Z</dcterms:created>
  <dc:creator>Paula Fernández Arias</dc:creator>
  <dc:description/>
  <dc:language>en-US</dc:language>
  <cp:lastModifiedBy>Paula Fernández Arias</cp:lastModifiedBy>
  <cp:lastPrinted>2001-10-04T14:44:24Z</cp:lastPrinted>
  <dcterms:modified xsi:type="dcterms:W3CDTF">2001-10-04T17:33:28Z</dcterms:modified>
  <cp:revision>10</cp:revision>
  <dc:subject/>
  <dc:title>INTRODUCCIÓN AL SISTEMA PRODUCTIVO</dc:title>
</cp:coreProperties>
</file>